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A3EF-F71E-451F-BB09-0400DA13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E9DA-5826-4BFD-BA7A-26CFE91A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8D28-1DCB-4F13-8DC2-95000960C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1E0F-00A6-4FE8-8F0C-BA0D55218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AA36-C775-41C7-965C-846FE7D5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492C-4854-4D0C-8C13-C28B89CD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6BD9-25FA-4DA9-B8F2-22ECCDFD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BFE0-74FB-4048-902C-BBF8E065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7CF5-88F8-412E-8742-E89B6A80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C7D2-DCD6-4683-BB85-F4C01746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4724-B38B-432B-A25E-106CCE54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4E13-198B-468D-AE3B-AD439101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30C0-A49B-4F26-8737-CCA5EE23B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eb.mit.edu/invent/iow/handler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0000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29400" y="5029200"/>
            <a:ext cx="228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i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/11/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66680" y="1600200"/>
            <a:ext cx="6924960" cy="3200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arbie Dol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4191120"/>
            <a:ext cx="1706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72 -0.1926 C 0.04861 -0.17038 0.05625 -0.15325 0.05833 -0.12038 C 0.06042 -0.08982 0.06476 -0.05441 0.08194 -0.03149 C 0.08646 -0.02547 0.09358 -0.02015 0.09861 -0.01482 C 0.1059 0.00462 0.12431 0.01689 0.1375 0.02962 C 0.16701 0.05809 0.13194 0.0287 0.16528 0.04999 C 0.18247 0.06087 0.17483 0.0611 0.19167 0.06851 C 0.2092 0.07638 0.22778 0.07916 0.24583 0.08333 C 0.26458 0.0817 0.28073 0.08124 0.29444 0.06295 C 0.2974 0.05115 0.29358 0.06388 0.3 0.05184 C 0.30538 0.04166 0.30833 0.02962 0.3125 0.01851 C 0.31684 -0.01089 0.31684 0.000690000000000003 0.31111 -0.04075 C 0.30781 -0.06552 0.30017 -0.07755 0.2875 -0.09445 C 0.28247 -0.10117 0.2842 -0.10348 0.27778 -0.10927 C 0.27014 -0.11598 0.26024 -0.11691 0.25139 -0.12038 C 0.21684 -0.13357 0.18316 -0.13751 0.14722 -0.14075 C 0.13941 -0.14144 0.13142 -0.14191 0.12361 -0.1426 C 0.08299 -0.14144 0.05382 -0.14052 0.01667 -0.13334 C 0.01007 -0.13033 0.00816 -0.13218 0.00417 -0.12408 C 0.00278 -0.11621 -0.00868 -0.0889 -0.01389 -0.08519 C -0.02031 -0.08056 -0.03472 -0.07593 -0.03472 -0.07593 C -0.04219 -0.07663 -0.04948 -0.07686 -0.05694 -0.07779 C -0.06337 -0.07871 -0.06892 -0.08427 -0.075 -0.08705 C -0.08003 -0.08936 -0.08524 -0.09098 -0.09028 -0.0926 C -0.09618 -0.09839 -0.10243 -0.10348 -0.10833 -0.10927 C -0.11285 -0.1139 -0.11719 -0.12246 -0.12222 -0.12593 C -0.1276 -0.12964 -0.13889 -0.13519 -0.13889 -0.13519 C -0.14444 -0.1426 -0.14896 -0.14515 -0.15556 -0.15001 C -0.16719 -0.1588 -0.17118 -0.16436 -0.18333 -0.16853 C -0.18872 -0.18288 -0.18472 -0.17894 -0.17639 -0.18519 C -0.17274 -0.18797 -0.17049 -0.19399 -0.16667 -0.1963 C -0.16458 -0.19792 -0.16198 -0.19746 -0.15972 -0.19816 C -0.15312 -0.2007 -0.1467 -0.20302 -0.14028 -0.20556 C -0.13698 -0.20672 -0.13056 -0.20927 -0.13056 -0.20927 C -0.10833 -0.20811 -0.08594 -0.20927 -0.06389 -0.20556 C -0.03941 -0.2014 -0.01597 -0.18959 0.00833 -0.18519 C 0.0533 -0.1676 0.01354 -0.18635 0.04722 -0.16297 C 0.07205 -0.14561 0.0599 -0.15857 0.08056 -0.1426 C 0.10191 -0.12617 0.12118 -0.10371 0.13611 -0.07779 C 0.15573 -0.04353 0.16892 -0.00348 0.1875 0.03147 C 0.19497 0.04559 0.20208 0.06018 0.21111 0.07221 C 0.23698 0.1067 0.19913 0.05092 0.22917 0.09444 C 0.2316 0.09791 0.23333 0.10254 0.23611 0.10555 C 0.24028 0.10995 0.24566 0.11249 0.25 0.11643 C 0.25399 0.12059 0.25694 0.12638 0.26111 0.12962 C 0.2724 0.13842 0.28854 0.14027 0.30139 0.14258 C 0.32413 0.14143 0.34688 0.14096 0.36944 0.13865 C 0.38316 0.13749 0.39792 0.12175 0.40833 0.11295 C 0.44965 0.07777 0.46788 0.0192 0.47778 -0.0426 C 0.47535 -0.10996 0.47778 -0.19075 0.41667 -0.20556 C 0.3875 -0.20232 0.36476 -0.18473 0.3375 -0.17038 C 0.30799 -0.1551 0.27917 -0.13913 0.25 -0.12223 C 0.23958 -0.11621 0.22882 -0.11066 0.21806 -0.10556 C 0.20712 -0.10024 0.19549 -0.09677 0.18472 -0.09075 C 0.17552 -0.08566 0.16736 -0.07779 0.15833 -0.07223 C 0.12344 -0.0507 0.08854 -0.0301 0.05278 -0.01112 C 0.04566 -0.00742 0.03924 -0.0014 0.03194 0.00184 C 0.00469 0.01365 -0.02569 0.02036 -0.05417 0.02407 C -0.07083 0.02175 -0.09913 0.0199 -0.11389 0.00925 C -0.1151 0.00833 -0.1309 -0.00186 -0.13472 -0.00742 C -0.13785 -0.01205 -0.14306 -0.02223 -0.14306 -0.02223 C -0.14514 -0.03959 -0.14792 -0.05788 -0.15278 -0.07408 C -0.14913 -0.13103 -0.16007 -0.14908 -0.12222 -0.16297 C -0.11771 -0.16459 -0.11302 -0.16552 -0.10833 -0.16667 C -0.06806 -0.16482 -0.02778 -0.16343 0.0125 -0.16112 C 0.03108 -0.16019 0.06806 -0.15742 0.06806 -0.15742 C 0.0908 -0.15279 0.11354 -0.1514 0.13611 -0.1463 C 0.16424 -0.13242 0.15347 -0.13635 0.16806 -0.13149 C 0.18403 -0.11436 0.18924 -0.08843 0.19444 -0.06297 C 0.19705 -0.03566 0.19948 -0.0088 0.20139 0.01851 C 0.20104 0.02592 0.20122 0.0493 0.19861 0.0611 C 0.19688 0.06874 0.19306 0.07407 0.19167 0.08147 C 0.18715 0.10508 0.19358 0.07754 0.1875 0.09814 C 0.18646 0.10184 0.18472 0.10925 0.18472 0.10925 C 0.18524 0.11411 0.18472 0.11944 0.18611 0.12407 C 0.18819 0.13078 0.19931 0.13703 0.20278 0.13865 C 0.22066 0.14837 0.23785 0.15022 0.25694 0.15184 C 0.29479 0.14351 0.32778 0.12661 0.35972 0.09814 C 0.37778 0.08217 0.38872 0.0574 0.40139 0.03518 C 0.41267 0.0155 0.42448 -0.00093 0.43194 -0.02408 C 0.43368 -0.03589 0.43628 -0.04723 0.4375 -0.05927 C 0.4276 -0.11158 0.42726 -0.11922 0.40417 -0.16667 C 0.40156 -0.17223 0.38229 -0.17917 0.37778 -0.18149 C 0.33906 -0.20117 0.29931 -0.20255 0.25833 -0.20742 C 0.23281 -0.20672 0.20729 -0.20857 0.18194 -0.20556 C 0.10191 -0.1963 0.01458 -0.1507 -0.0625 -0.11853 C -0.08507 -0.10904 -0.10503 -0.09144 -0.12639 -0.07779 C -0.14253 -0.0676 -0.15851 -0.06019 -0.175 -0.05186 C -0.1875 -0.04561 -0.19583 -0.03334 -0.20833 -0.02779 C -0.2125 -0.02848 -0.21719 -0.02686 -0.22083 -0.02964 C -0.22292 -0.03126 -0.22187 -0.03589 -0.22222 -0.0389 C -0.22274 -0.0426 -0.22309 -0.0463 -0.22361 -0.05001 C -0.22309 -0.05996 -0.22361 -0.06992 -0.22222 -0.07964 C -0.22118 -0.08705 -0.21528 -0.09167 -0.2125 -0.09816 C -0.2099 -0.10417 -0.20851 -0.11112 -0.20556 -0.11667 C -0.19705 -0.13288 -0.18281 -0.14237 -0.17222 -0.15556 C -0.16823 -0.16066 -0.16528 -0.16737 -0.16111 -0.17223 C -0.15729 -0.17663 -0.1526 -0.17917 -0.14861 -0.18334 C -0.12413 -0.20834 -0.11007 -0.22084 -0.07917 -0.22593 C -0.01059 -0.21691 0.03993 -0.14237 0.09028 -0.08705 C 0.14948 -0.02177 0.21719 0.02684 0.27917 0.08703 C 0.29201 0.09953 0.31458 0.12036 0.32778 0.13703 C 0.3408 0.15346 0.35399 0.17661 0.37083 0.18703 C 0.38247 0.1942 0.39566 0.19629 0.40833 0.19814 C 0.43316 0.19397 0.46024 0.19004 0.47361 0.1574 C 0.47865 0.14513 0.47934 0.13008 0.48056 0.11643 C 0.47552 0.07337 0.47934 0.01828 0.46111 -0.02038 C 0.45451 -0.03473 0.44323 -0.047 0.43333 -0.05742 C 0.42813 -0.06297 0.41719 -0.07038 0.41111 -0.07408 C 0.39792 -0.08195 0.39097 -0.08612 0.37639 -0.0889 C 0.37101 -0.08982 0.32969 -0.09237 0.32778 -0.0926 C 0.24201 -0.0882 0.15764 -0.06922 0.07361 -0.04445 C 0.01406 -0.02686 -0.04323 -0.00117 -0.10417 0.00555 C -0.12326 0.01249 -0.14809 0.02083 -0.16528 0.0037 C -0.17031 -0.0014 -0.17465 -0.00556 -0.17778 -0.01297 C -0.18229 -0.02385 -0.19028 -0.0463 -0.19028 -0.0463 C -0.19444 -0.0764 -0.19531 -0.10672 -0.19861 -0.13705 C -0.1967 -0.1551 -0.19549 -0.17292 -0.19306 -0.19075 C -0.19132 -0.20394 -0.18108 -0.21181 -0.17361 -0.21853 C -0.15608 -0.23404 -0.13559 -0.2345 -0.11528 -0.23705 C -0.06337 -0.23589 -0.0151 -0.24515 0.03194 -0.21667 C 0.0434 -0.2014 0.05833 -0.19075 0.06944 -0.17593 C 0.07535 -0.16806 0.07934 -0.15834 0.08472 -0.15001 C 0.09878 -0.12802 0.11337 -0.10672 0.12778 -0.08519 C 0.19774 0.01828 0.12708 -0.08913 0.18889 0.00555 C 0.1974 0.01851 0.2099 0.02569 0.21944 0.03703 C 0.30521 0.13865 0.1901 0.01828 0.30278 0.13309 C 0.33594 0.16735 0.36597 0.18795 0.39028 0.23518 C 0.40868 0.27106 0.38715 0.22268 0.41111 0.27962 C 0.41406 0.28657 0.41944 0.29073 0.42361 0.29629 C 0.425 0.29814 0.42778 0.30184 0.42778 0.30184 C 0.46319 0.28402 0.47326 0.22754 0.48194 0.18309 C 0.49896 0.09675 0.49774 0.00902 0.50278 -0.07964 C 0.50399 -0.1007 0.50781 -0.12154 0.50972 -0.1426 C 0.50781 -0.16367 0.50747 -0.18496 0.50417 -0.20556 C 0.5033 -0.21135 0.49931 -0.21529 0.49722 -0.22038 C 0.49167 -0.23404 0.49531 -0.23218 0.4875 -0.2426 C 0.47396 -0.26066 0.44184 -0.25626 0.425 -0.25742 C 0.40781 -0.25904 0.3908 -0.25996 0.37361 -0.26112 C 0.34097 -0.26042 0.27847 -0.2632 0.23889 -0.25371 C 0.16858 -0.23681 0.12795 -0.19167 0.07639 -0.12964 C 0.03212 -0.07663 0.09792 -0.15857 0.05694 -0.10001 C 0.04323 -0.08033 0.04757 -0.09862 0.0375 -0.07408 C 0.02222 -0.03681 0.01389 0.00439 -0.00556 0.03888 C -0.00937 0.05416 -0.00312 0.03032 -0.01389 0.05925 C -0.01476 0.0618 -0.01667 0.06944 -0.01667 0.06666 C -0.01667 0.04143 0.00226 0.02314 0.00972 -5.18519E-006 C 0.04149 -0.09769 0.02795 -0.05695 0.05 -0.12223 C 0.0592 -0.14955 0.05868 -0.18288 0.06528 -0.21112 C 0.0684 -0.2426 0.07483 -0.2713 0.08056 -0.30186 C 0.10035 -0.26667 0.10642 -0.20232 0.11667 -0.15927 C 0.12014 -0.14468 0.12569 -0.13126 0.12917 -0.11667 C 0.13594 -0.08867 0.13767 -0.05811 0.14722 -0.03149 C 0.17448 0.04467 0.15816 -0.00348 0.19306 0.11481 C 0.19913 0.13518 0.21597 0.20045 0.21944 0.21851 C 0.22361 0.24027 0.22917 0.28518 0.22917 0.28518 C 0.23038 0.30925 0.23177 0.33309 0.23472 0.3574 C 0.29462 0.29351 0.33368 0.20393 0.37083 0.11643 C 0.38628 0.08008 0.40417 0.0486 0.4125 0.0074 C 0.41563 -0.00834 0.41736 -0.02455 0.41944 -0.04075 C 0.41997 -0.04445 0.42361 -0.05117 0.42083 -0.05186 C 0.41684 -0.05279 0.41441 -0.04561 0.41111 -0.0426 C 0.35538 0.11805 0.2816 0.26712 0.20139 0.4074 C 0.14097 0.51319 0.08438 0.62731 0.01667 0.72592 C 0.0158 0.72893 0.01563 0.73749 0.01389 0.73518 C 0.01111 0.73147 0.02205 0.70647 0.025 0.69444 C 0.0349 0.65462 0.04358 0.61411 0.05278 0.57407 C 0.09931 0.37245 0.03542 0.61064 0.12778 0.29073 C 0.14722 0.22337 0.17118 0.15856 0.19583 0.09444 C 0.20642 0.06666 0.21927 0.04004 0.22778 0.0111 C 0.26163 -0.10371 0.29566 -0.23473 0.30417 -0.35927 C 0.30365 -0.36367 0.30486 -0.36876 0.30278 -0.37223 C 0.30226 -0.37316 0.2941 -0.35996 0.29028 -0.35371 C 0.28438 -0.34422 0.27743 -0.33612 0.27222 -0.32593 C 0.22465 -0.23357 0.18264 -0.13658 0.13472 -0.04445 C 0.08698 0.04721 0.13924 -0.07663 0.10417 0.01295 C 0.10243 0.01735 0.10017 0.02129 0.09861 0.02592 C 0.0974 0.02939 0.09479 0.04073 0.09583 0.03703 C 0.11875 -0.04052 0.14653 -0.11552 0.16667 -0.19445 C 0.17413 -0.22339 0.18021 -0.25348 0.18889 -0.28149 C 0.19861 -0.3132 0.21215 -0.3426 0.22222 -0.37408 C 0.23021 -0.39885 0.23576 -0.42455 0.24306 -0.45001 C 0.27569 -0.56228 0.24774 -0.44862 0.27917 -0.58705 C 0.28177 -0.59862 0.26163 -0.5808 0.25278 -0.57779 C 0.24097 -0.56737 0.22778 -0.55973 0.21667 -0.54816 C 0.21128 -0.5426 0.20781 -0.53404 0.20278 -0.52779 C 0.19653 -0.51992 0.18906 -0.5139 0.18333 -0.50556 C 0.16215 -0.47501 0.14948 -0.43218 0.13472 -0.3963 C 0.12066 -0.36205 0.09983 -0.33542 0.08333 -0.30371 C 0.0776 -0.2926 0.07378 -0.27964 0.06806 -0.26853 C 0.05486 -0.24237 0.03837 -0.22524 0.02222 -0.20371 C 0.0283 -0.22802 0.04028 -0.24144 0.05 -0.26297 C 0.05417 -0.27223 0.0559 -0.28311 0.05972 -0.2926 C 0.06476 -0.30487 0.07135 -0.31552 0.07639 -0.32779 C 0.08247 -0.34283 0.0875 -0.35857 0.09306 -0.37408 C 0.09583 -0.38172 0.10486 -0.40371 0.1 -0.39839 C 0.0967 -0.39445 0.09358 -0.39075 0.09028 -0.38705 C 0.05642 -0.30487 0.07205 -0.33959 0.025 -0.2426 C 0.01962 -0.23149 0.00833 -0.20927 0.00833 -0.20927 C 0.00434 -0.18427 0.00087 -0.17408 0.00556 -0.1463 C 0.0059 -0.14422 0.00816 -0.14955 0.00972 -0.15001 C 0.01198 -0.15117 0.01441 -0.15117 0.01667 -0.15186 C 0.02552 -0.15117 0.03438 -0.15232 0.04306 -0.15001 C 0.05035 -0.14839 0.05295 -0.1345 0.05972 -0.13149 C 0.06528 -0.12038 0.06424 -0.12593 0.04722 -0.12593 L 0.05694 -0.12593 C 0.05278 -0.12894 0.04913 -0.13473 0.04444 -0.13519 C 0.04201 -0.13566 0.03125 -0.12177 0.02917 -0.12038 C 0.01701 -0.11181 0.00278 -0.10556 -0.00972 -0.09816 C -0.01424 -0.09538 -0.01788 -0.09052 -0.02222 -0.08705 C -0.02986 -0.08103 -0.03785 -0.07547 -0.04583 -0.07038 C -0.06753 -0.05672 -0.05556 -0.06968 -0.08194 -0.0463 C -0.08524 -0.0433 -0.08802 -0.03936 -0.09167 -0.03705 C -0.09427 -0.03519 -0.1 -0.03334 -0.1 -0.03334 L 0.12778 -0.04075 L 0.03889 -0.15186 L 0.08194 -0.16482 L 0.14167 -0.10927 L 0.15 -0.07779 L 0.05 -0.05371 C 0.04167 -0.05417 0.02674 -0.05163 0.01667 -0.05742 C 0.01076 -0.06089 -0.00139 -0.06667 -0.00139 -0.06667 L -0.05278 -0.06297 L -0.12083 -0.10371 L -0.13194 -0.16853 C -0.14792 -0.2058 -0.13437 -0.18311 -0.20139 -0.17964 C -0.2033 -0.17964 -0.20694 -0.17779 -0.20694 -0.17779 C -0.21684 -0.15857 -0.2625 -0.10186 -0.24167 -0.06482 C -0.22465 -0.03473 -0.17899 -0.01783 -0.15278 -0.01112 C -0.13941 -0.00765 -0.12587 -0.00487 -0.1125 -0.00186 C -0.10417 -5.18519000000011E-006 -0.0875 0.00184 -0.0875 0.00184 L 0.36944 0.00555 L 0.06389 0.02962 L 0.04583 0.02407 L 0.00139 -0.02223 L 0.00694 0.00555 L 2.5E-006 -5.18519E-006 E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Handler"/>
          <p:cNvPicPr/>
          <p:nvPr/>
        </p:nvPicPr>
        <p:blipFill>
          <a:blip r:embed="rId1"/>
          <a:srcRect l="23339" t="0" r="7780" b="0"/>
          <a:stretch/>
        </p:blipFill>
        <p:spPr>
          <a:xfrm>
            <a:off x="1066680" y="1219320"/>
            <a:ext cx="6324840" cy="28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Handler"/>
          <p:cNvPicPr/>
          <p:nvPr/>
        </p:nvPicPr>
        <p:blipFill>
          <a:blip r:embed="rId2"/>
          <a:srcRect l="0" t="0" r="75559" b="0"/>
          <a:stretch/>
        </p:blipFill>
        <p:spPr>
          <a:xfrm>
            <a:off x="3733920" y="152280"/>
            <a:ext cx="2173320" cy="2743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00200" y="4327560"/>
            <a:ext cx="60958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uth Handl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5/16/1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handler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22222E-006 C 0.00122 -0.08195 0.00348 -0.11274 0.00139 -0.1963 C 0.00105 -0.20695 -0.00191 -0.2176 -0.00833 -0.22408 C -0.01232 -0.22824 -0.02083 -0.23519 -0.02083 -0.23519 C -0.02378 -0.24121 -0.0302 -0.24977 -0.03472 -0.25371 C -0.04218 -0.26852 -0.03246 -0.2507 -0.04166 -0.26297 C -0.04722 -0.27037 -0.05121 -0.27848 -0.05833 -0.28334 C -0.06388 -0.29468 -0.06562 -0.30811 -0.07083 -0.31852 C -0.07378 -0.33426 -0.07899 -0.34931 -0.08194 -0.36482 C -0.08072 -0.4213 -0.08472 -0.43334 -0.06944 -0.47408 C -0.06788 -0.47801 -0.06875 -0.48357 -0.06666 -0.48704 C -0.06562 -0.48866 -0.04965 -0.49352 -0.04722 -0.49445 C -0.03194 -0.49375 -0.01666 -0.49422 -0.00138 -0.4926 C 0.00105 -0.49237 0.00313 -0.48982 0.00556 -0.48889 C 0.01389 -0.48565 0.02205 -0.48311 0.03056 -0.48149 C 0.03334 -0.47894 0.03577 -0.47547 0.03889 -0.47408 C 0.04028 -0.47338 0.04184 -0.47315 0.04306 -0.47223 C 0.04601 -0.47014 0.05139 -0.46482 0.05139 -0.46482 C 0.05469 -0.45811 0.05747 -0.45255 0.0625 -0.44815 C 0.06632 -0.44051 0.07171 -0.43357 0.07778 -0.42963 C 0.08073 -0.42385 0.09184 -0.40463 0.09306 -0.40371 C 0.1 -0.39908 0.10747 -0.39144 0.1125 -0.38334 C 0.11702 -0.37616 0.12101 -0.36899 0.125 -0.36112 C 0.12796 -0.35533 0.13421 -0.35348 0.1375 -0.34815 C 0.14323 -0.33912 0.14966 -0.33172 0.15834 -0.32778 C 0.16615 -0.31737 0.16059 -0.31899 0.17223 -0.31112 C 0.17726 -0.30093 0.1849 -0.29838 0.19167 -0.29074 C 0.19323 -0.28912 0.19462 -0.28727 0.19584 -0.28519 C 0.19688 -0.28357 0.1974 -0.28102 0.19862 -0.27963 C 0.20782 -0.26899 0.2191 -0.26158 0.22778 -0.25 C 0.23803 -0.23635 0.2283 -0.24422 0.23889 -0.23704 C 0.24514 -0.22454 0.23698 -0.23959 0.24862 -0.22408 C 0.25313 -0.21806 0.25591 -0.21274 0.26112 -0.20741 C 0.26198 -0.20487 0.2625 -0.20209 0.26389 -0.2 C 0.26719 -0.19468 0.275 -0.18519 0.275 -0.18519 C 0.27691 -0.17894 0.27848 -0.17199 0.28195 -0.16667 C 0.28299 -0.16505 0.2849 -0.16459 0.28612 -0.16297 C 0.2882 -0.16019 0.28994 -0.15695 0.29167 -0.15371 C 0.3066 -0.12524 0.32674 -0.10162 0.33334 -0.06667 C 0.33056 -0.03727 0.33056 -0.00996 0.32917 0.02037 C 0.329 0.02569 0.32362 0.03426 0.32223 0.03703 C 0.31719 0.04722 0.31459 0.05717 0.30695 0.06481 C 0.3033 0.07963 0.29237 0.08819 0.28334 0.09629 C 0.27761 0.10138 0.27084 0.10555 0.26667 0.11296 C 0.26528 0.11551 0.26441 0.11851 0.2625 0.12037 C 0.25452 0.1287 0.24341 0.1324 0.23473 0.13865 C 0.22674 0.1449 0.22136 0.15162 0.2125 0.15555 C 0.21059 0.1574 0.20903 0.15972 0.20695 0.16111 C 0.20521 0.16226 0.20296 0.16157 0.20139 0.16296 C 0.2 0.16388 0.2 0.16736 0.19862 0.16851 C 0.19705 0.1699 0.1948 0.16967 0.19306 0.17037 C 0.17309 0.17916 0.17188 0.17986 0.14862 0.18333 C 0.13195 0.19213 0.11303 0.19236 0.09584 0.2 C 0.08924 0.19976 0.03837 0.19745 0.02778 0.19629 C 0.02032 0.19537 0.01337 0.18588 0.00695 0.18148 C 0.00487 0.17338 0.00348 0.16527 0.00139 0.1574 C 0.00053 0.14745 -0.00034 0.13564 -0.00277 0.12592 C -0.0052 0.1162 -0.0052 0.12106 -0.00833 0.11296 C -0.01093 0.10578 -0.01059 0.0993 -0.01388 0.09259 C -0.01336 0.08194 -0.01406 0.07129 -0.0125 0.06111 C -0.01163 0.05601 -0.00555 0.05555 -0.00277 0.05185 C 0.00157 0.04606 0.00365 0.03819 0.00695 0.03148 C 0.00643 0.02314 0.00851 0.01319 0.00417 0.0074 C -0.00138 2.22221999999963E-006 -1.11111E-006 0.01203 -1.11111E-006 2.22222E-006 Z">
                                      <p:cBhvr>
                                        <p:cTn id="15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11111E-006 C 0.00052 0.00671 4.44443999999991E-006 0.01389 0.00121 0.02037 C 0.00312 0.02939 0.00729 0.03727 0.00972 0.04629 C 0.01302 0.05995 0.01701 0.0743 0.02222 0.08703 C 0.02708 0.09861 0.03472 0.10833 0.03888 0.12037 C 0.04531 0.13912 0.05312 0.15717 0.05972 0.17592 C 0.06632 0.1949 0.06111 0.18588 0.06805 0.20185 C 0.07378 0.21504 0.08038 0.22777 0.08611 0.24074 C 0.09392 0.25856 0.10017 0.27801 0.11111 0.29259 C 0.11319 0.30671 0.11076 0.29745 0.11666 0.30926 C 0.11909 0.31412 0.12361 0.32407 0.12361 0.32407 C 0.12586 0.33889 0.1342 0.34884 0.14027 0.36111 C 0.14548 0.38912 0.13715 0.34676 0.14444 0.37592 C 0.14722 0.38703 0.14687 0.39953 0.14861 0.41111 C 0.14687 0.44907 0.14427 0.48657 0.11388 0.5 C 0.10329 0.49884 0.09253 0.49884 0.08194 0.49629 C 0.07934 0.4956 0.0743 0.4875 0.07222 0.48518 C 0.06284 0.47477 0.05468 0.46296 0.04722 0.45 C 0.03177 0.42314 0.01475 0.40879 -0.00556 0.39074 C -0.0224 0.37569 0.00382 0.39421 -0.01546 0.38148 C -0.02014 0.36527 -0.03143 0.35347 -0.04028 0.34074 C -0.05695 0.31666 -0.03646 0.34467 -0.05573 0.31296 C -0.07796 0.27615 -0.05521 0.32014 -0.07084 0.28889 C -0.07848 0.25439 -0.08785 0.22245 -0.09723 0.18889 C -0.10278 0.16944 -0.10434 0.14814 -0.11112 0.12963 C -0.11528 0.11852 -0.12205 0.11481 -0.12639 0.1037 C -0.13577 0.08032 -0.13889 0.06412 -0.15834 0.0537 C -0.16789 0.03657 -0.1816 0.02453 -0.19723 0.02037 C -0.20365 0.02106 -0.21025 0.0206 -0.21667 0.02222 C -0.2198 0.02314 -0.22205 0.02639 -0.225 0.02777 C -0.23525 0.03264 -0.24757 0.03796 -0.25834 0.04074 C -0.26598 0.04838 -0.27657 0.05208 -0.28334 0.06111 C -0.2941 0.07546 -0.28021 0.0581 -0.29306 0.07037 C -0.29462 0.07199 -0.29566 0.0743 -0.29723 0.07592 C -0.29948 0.07847 -0.30174 0.08102 -0.30417 0.08333 C -0.31059 0.08935 -0.31303 0.08912 -0.31945 0.09629 C -0.3224 0.09953 -0.32466 0.10439 -0.32796 0.1074 C -0.33716 0.11666 -0.34775 0.12338 -0.35695 0.13333 C -0.36962 0.14722 -0.38108 0.16342 -0.39445 0.17592 C -0.39705 0.17824 -0.40018 0.17916 -0.40278 0.18148 C -0.40764 0.18588 -0.41198 0.19143 -0.41667 0.19629 C -0.42188 0.20185 -0.42743 0.20717 -0.43334 0.21111 C -0.43525 0.21227 -0.43716 0.21319 -0.43889 0.21481 C -0.44462 0.2199 -0.46007 0.23889 -0.46667 0.24074 C -0.47466 0.24282 -0.48247 0.2456 -0.49028 0.24814 C -0.49862 0.24745 -0.50695 0.24791 -0.51528 0.24629 C -0.51702 0.24606 -0.51789 0.24352 -0.51945 0.24259 C -0.52518 0.23912 -0.52882 0.23865 -0.53473 0.23703 C -0.54271 0.22986 -0.53768 0.23495 -0.54862 0.22037 C -0.55 0.21852 -0.55 0.21481 -0.55139 0.21296 C -0.55278 0.21111 -0.55539 0.21088 -0.55695 0.20926 C -0.56007 0.20602 -0.56528 0.19814 -0.56528 0.19814 C -0.5658 0.19629 -0.56598 0.19444 -0.56667 0.19259 C -0.56737 0.19051 -0.56893 0.18912 -0.56945 0.18703 C -0.57084 0.18217 -0.57101 0.17708 -0.57223 0.17222 C -0.57344 0.16088 -0.57518 0.15023 -0.57639 0.13889 C -0.57518 0.12037 -0.57379 0.10208 -0.56528 0.08703 C -0.56389 0.07916 -0.56268 0.06805 -0.55973 0.06111 C -0.55365 0.04676 -0.54445 0.02916 -0.53612 0.01666 C -0.53351 0.01273 -0.53004 0.00995 -0.52778 0.00555 C -0.52553 0.00115 -0.52431 -0.00232 -0.52084 -0.00556 C -0.51389 -0.01204 -0.50261 -0.01806 -0.49723 -0.02593 C -0.49497 -0.02917 -0.49445 -0.03449 -0.49167 -0.03704 C -0.48889 -0.03959 -0.48577 -0.04144 -0.48334 -0.04445 C -0.4816 -0.04653 -0.48091 -0.04977 -0.47917 -0.05186 C -0.47761 -0.05371 -0.45782 -0.06598 -0.45556 -0.06667 C -0.44254 -0.07107 -0.42865 -0.07176 -0.41528 -0.07408 C -0.3875 -0.08473 -0.35938 -0.0882 -0.33056 -0.09445 C -0.32396 -0.09792 -0.31702 -0.10209 -0.31112 -0.10741 C -0.30643 -0.1169 -0.30053 -0.12639 -0.29306 -0.13148 C -0.29115 -0.13519 -0.28941 -0.13889 -0.2875 -0.1426 C -0.28664 -0.14445 -0.28473 -0.14815 -0.28473 -0.14815 C -0.28542 -0.15371 -0.28646 -0.16551 -0.28889 -0.17037 C -0.2908 -0.17408 -0.29445 -0.18148 -0.29445 -0.18148 C -0.29393 -0.1926 -0.2948 -0.20394 -0.29306 -0.21482 C -0.29271 -0.21667 -0.29028 -0.21598 -0.28889 -0.21667 C -0.28316 -0.21945 -0.27813 -0.22199 -0.27223 -0.22408 C -0.26528 -0.22338 -0.25834 -0.22361 -0.25139 -0.22223 C -0.24618 -0.22107 -0.2415 -0.21482 -0.23612 -0.21297 C -0.23282 -0.20996 -0.22987 -0.20625 -0.22639 -0.20371 C -0.22518 -0.20278 -0.22362 -0.20278 -0.22223 -0.20186 C -0.2198 -0.20023 -0.21754 -0.19838 -0.21528 -0.1963 C -0.20521 -0.18704 -0.19514 -0.17547 -0.18334 -0.17037 C -0.175 -0.15926 -0.1665 -0.14653 -0.1599 -0.13334 C -0.1573 -0.11968 -0.14827 -0.10533 -0.14046 -0.0963 C -0.13681 -0.09236 -0.13542 -0.08727 -0.13056 -0.08704 C -0.11112 -0.08588 -0.09184 -0.08588 -0.07223 -0.08519 C -0.05504 -0.07755 -0.06684 -0.08172 -0.03612 -0.07963 C -0.02292 -0.06181 -0.0073 -0.04769 0.01111 -0.04074 C 0.0177 -0.03542 0.02361 -0.03334 0.03055 -0.02963 C 0.04982 -0.01898 0.03472 -0.02454 0.04722 -0.02037 C 0.05468 -0.01389 0.06197 -0.01088 0.07083 -0.00926 C 0.07691 -0.00648 0.08159 -0.00255 0.0875 1.11111E-006 C 0.09149 0.0081 0.10347 0.02037 0.10972 0.02592 C 0.11927 0.04514 0.10399 0.01643 0.11805 0.03518 C 0.11909 0.03657 0.11857 0.03912 0.11944 0.04074 C 0.1217 0.04444 0.12552 0.04629 0.12777 0.05 C 0.13177 0.05648 0.13507 0.06365 0.13888 0.07037 C 0.14322 0.07801 0.14895 0.0831 0.15277 0.09074 C 0.15382 0.1206 0.15538 0.14236 0.15277 0.17222 C 0.15225 0.17777 0.14305 0.18379 0.14166 0.18518 C 0.13697 0.18935 0.125 0.18889 0.125 0.18889 C 0.1151 0.1956 0.11232 0.19421 0.1 0.19259 C 0.09132 0.16967 0.08159 0.14629 0.075 0.12222 C 0.07013 0.10416 0.06597 0.0831 0.05 0.07777 C 0.04427 0.07014 0.03715 0.06689 0.03055 0.06111 C 0.02569 0.05185 0.02118 0.0456 0.01388 0.04074 C 0.00729 0.02939 -0.0007 0.01944 -0.00417 0.00555 C 0.00086 0.00324 4.44444E-006 0.00555 4.44444E-006 1.11111E-006 Z">
                                      <p:cBhvr>
                                        <p:cTn id="19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7.03704E-006 C 0.00417 0.00579 0.01024 0.01436 0.01511 0.01852 C 0.01684 0.01991 0.0191 0.01945 0.02083 0.02038 C 0.02587 0.02315 0.03125 0.02616 0.03611 0.02963 C 0.04809 0.0382 0.05764 0.05139 0.06927 0.05926 C 0.07726 0.07362 0.08889 0.0838 0.09722 0.09815 C 0.10295 0.10788 0.10139 0.11389 0.10972 0.122 C 0.11458 0.13288 0.12431 0.14237 0.12778 0.15348 C 0.1309 0.16436 0.1342 0.17014 0.13889 0.17963 C 0.1441 0.19005 0.13958 0.18357 0.14306 0.19445 C 0.1474 0.20834 0.1533 0.22176 0.15833 0.23519 C 0.15955 0.24514 0.16389 0.27223 0.16806 0.27963 C 0.17083 0.2845 0.17465 0.28866 0.17639 0.29445 C 0.1816 0.31158 0.18958 0.32778 0.19583 0.34422 C 0.19636 0.34746 0.19636 0.35047 0.19722 0.35371 C 0.19774 0.35579 0.2 0.35695 0.2 0.35926 C 0.20087 0.39051 0.20208 0.39653 0.19306 0.41667 C 0.19115 0.42709 0.1934 0.42176 0.1875 0.42755 C 0.17708 0.4382 0.18455 0.43334 0.17222 0.43866 C 0.16597 0.44167 0.16146 0.43936 0.15556 0.44445 C 0.14931 0.44977 0.14202 0.45301 0.13472 0.45556 C 0.1217 0.46713 0.10712 0.46876 0.09149 0.47038 C 0.08472 0.47246 0.07743 0.47616 0.07066 0.47778 C 0.06788 0.47825 0.06024 0.47987 0.05695 0.48149 C 0.05504 0.48241 0.0533 0.48403 0.05139 0.48519 C 0.05 0.48565 0.04861 0.48635 0.04722 0.48681 C 0.04358 0.50093 0.03941 0.5132 0.04583 0.52963 C 0.04809 0.53542 0.05504 0.53426 0.05972 0.53681 C 0.07309 0.54422 0.08889 0.54422 0.10278 0.54792 C 0.15208 0.54538 0.12743 0.55001 0.14861 0.54051 C 0.15347 0.53056 0.15608 0.52153 0.1625 0.51297 C 0.16458 0.49931 0.17031 0.48195 0.17778 0.472 C 0.18195 0.45556 0.17552 0.47755 0.18333 0.46297 C 0.19097 0.44885 0.18195 0.45834 0.18889 0.44815 C 0.19809 0.4345 0.20868 0.42547 0.21806 0.41297 C 0.22257 0.40695 0.22379 0.39862 0.22778 0.3926 C 0.23438 0.38172 0.23837 0.37431 0.24167 0.36112 C 0.24236 0.32038 0.24271 0.28959 0.24583 0.25186 C 0.24705 0.20973 0.24844 0.1919 0.24583 0.14977 C 0.24479 0.13195 0.23958 0.11413 0.2375 0.0963 C 0.2342 0.06806 0.23264 0.04028 0.22639 0.01297 C 0.2224 -0.00439 0.21337 -0.01944 0.20695 -0.03518 C 0.2007 -0.05069 0.19618 -0.06944 0.18472 -0.07962 C 0.1783 -0.09675 0.18646 -0.07754 0.17639 -0.09259 C 0.16684 -0.10671 0.16042 -0.12083 0.14722 -0.12962 C 0.14583 -0.12777 0.14479 -0.12523 0.14306 -0.12407 C 0.13958 -0.12199 0.13195 -0.12037 0.13195 -0.12037 C 0.08559 -0.12129 0.05 -0.12199 0.00695 -0.12962 C 0.00052 -0.13078 -0.0059 -0.13263 -0.01267 -0.13333 C -0.02778 -0.13495 -0.05833 -0.13703 -0.05833 -0.13703 C -0.07239 -0.14004 -0.08785 -0.14282 -0.10139 -0.14814 C -0.11423 -0.153 -0.12604 -0.16111 -0.13889 -0.16481 C -0.16771 -0.17337 -0.19687 -0.17453 -0.22639 -0.17592 C -0.27292 -0.17453 -0.31892 -0.17222 -0.36528 -0.17037 C -0.38021 -0.16851 -0.39271 -0.16365 -0.40694 -0.15925 C -0.41007 -0.15833 -0.41337 -0.1581 -0.41667 -0.1574 C -0.42135 -0.15624 -0.43055 -0.1537 -0.43055 -0.1537 C -0.43715 -0.1493 -0.44114 -0.14791 -0.44861 -0.14629 C -0.45191 -0.14421 -0.45538 -0.14328 -0.45851 -0.14074 C -0.46458 -0.13541 -0.46771 -0.12615 -0.47239 -0.11851 C -0.48802 -0.09189 -0.46858 -0.12337 -0.48333 -0.1037 C -0.49375 -0.08981 -0.48455 -0.09953 -0.49323 -0.08518 C -0.49739 -0.078 -0.50035 -0.07546 -0.50573 -0.07037 C -0.51233 -0.05578 -0.51701 -0.04768 -0.52639 -0.03518 C -0.5283 -0.03263 -0.53212 -0.02777 -0.53212 -0.02777 C -0.53403 -0.01944 -0.53698 -0.01365 -0.54184 -0.0074 C -0.54323 -0.00208 -0.54358 0.00417 -0.54583 0.00926 C -0.54878 0.01528 -0.55312 0.01968 -0.55573 0.02593 C -0.55642 0.02848 -0.55746 0.03079 -0.55833 0.03334 C -0.56076 0.04954 -0.56267 0.06806 -0.56667 0.08334 C -0.57326 0.10672 -0.58316 0.12894 -0.59045 0.15163 C -0.59896 0.17963 -0.59844 0.21181 -0.61111 0.23704 C -0.61823 0.28426 -0.58212 0.3213 -0.56267 0.35371 C -0.54757 0.37848 -0.52274 0.40903 -0.50139 0.42223 C -0.49149 0.42825 -0.4809 0.43172 -0.47083 0.43704 C -0.45781 0.44376 -0.44514 0.45186 -0.43194 0.45926 C -0.41007 0.47176 -0.37031 0.47709 -0.34739 0.47778 C -0.3118 0.47871 -0.27587 0.47894 -0.24028 0.4794 C -0.21441 0.47894 -0.18837 0.47894 -0.1625 0.47778 C -0.13611 0.47663 -0.11736 0.43704 -0.10555 0.41112 C -0.10364 0.39538 -0.1 0.38681 -0.10278 0.37038 C -0.10382 0.36482 -0.1125 0.35741 -0.11389 0.35556 C -0.11736 0.35047 -0.12048 0.34422 -0.12378 0.33889 C -0.12517 0.33612 -0.12604 0.33241 -0.12778 0.3294 C -0.12882 0.32778 -0.13073 0.32732 -0.13194 0.3257 C -0.14705 0.30811 -0.15295 0.30186 -0.16944 0.29075 C -0.18611 0.27963 -0.19774 0.27107 -0.21667 0.26852 C -0.22535 0.26088 -0.23403 0.25857 -0.24305 0.25186 C -0.25469 0.24329 -0.26736 0.23403 -0.28073 0.22963 C -0.28646 0.22755 -0.29253 0.22709 -0.29861 0.22593 C -0.30503 0.22454 -0.31823 0.22223 -0.31823 0.22223 C -0.33854 0.22292 -0.35885 0.22292 -0.37917 0.22408 C -0.38733 0.22454 -0.39583 0.23172 -0.40417 0.23334 C -0.40885 0.23751 -0.41267 0.24213 -0.41805 0.24445 C -0.42101 0.24838 -0.42309 0.25371 -0.42639 0.25741 C -0.43663 0.26922 -0.43021 0.25695 -0.4375 0.26852 C -0.44358 0.27825 -0.44722 0.2882 -0.45694 0.2926 C -0.45851 0.29514 -0.45955 0.29792 -0.46111 0.29977 C -0.46354 0.30301 -0.46944 0.30718 -0.46944 0.30718 C -0.47239 0.30672 -0.47517 0.30718 -0.47778 0.30556 C -0.4875 0.29908 -0.49531 0.27338 -0.50139 0.26112 C -0.50364 0.24885 -0.50625 0.23635 -0.50833 0.22408 C -0.50087 0.19399 -0.5 0.1669 -0.47934 0.14607 C -0.47361 0.13126 -0.45972 0.12616 -0.45 0.11667 C -0.44184 0.10857 -0.43316 0.10001 -0.42361 0.09445 C -0.41753 0.09098 -0.41042 0.09121 -0.40417 0.08889 C -0.36805 0.07524 -0.32847 0.08033 -0.29184 0.07963 C -0.2467 0.08033 -0.21944 0.07963 -0.18055 0.08704 C -0.13871 0.08612 -0.09844 0.08519 -0.05694 0.07963 C -0.04514 0.0757 -0.03368 0.06991 -0.02222 0.06482 C -0.01701 0.06251 -0.00989 0.05001 -0.00989 0.05001 C -0.00625 0.03635 -0.00903 0.04167 -0.00278 0.03334 C -0.00156 0.02246 -0.00399 0.02061 0.00278 0.01667 C 0.00486 0.01528 0.01945 0.01204 0.01945 0.00556 E">
                                      <p:cBhvr>
                                        <p:cTn id="21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9900"/>
            </a:gs>
            <a:gs pos="100000">
              <a:srgbClr val="00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Barbie Do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 introduced in late 196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ed many rolls like a nurse, athlete, and astrona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ed in 19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old for $3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ever 3D do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7 C -0.02848 0.00139 -0.05035 0.00278 -0.07778 0.00926 C -0.14462 0.04815 -0.21042 0.09028 -0.26667 0.1537 C -0.31216 0.20509 -0.35365 0.26227 -0.39723 0.31667 C -0.44306 0.37384 -0.49445 0.42292 -0.54306 0.47593 C -0.58785 0.52454 -0.64497 0.55509 -0.67917 0.62014 C -0.68802 0.66181 -0.66476 0.68333 -0.64723 0.71111 C -0.5915 0.79931 -0.50695 0.85069 -0.42361 0.87963 C -0.38403 0.89329 -0.3441 0.90509 -0.30417 0.91667 C -0.27639 0.92477 -0.19323 0.94213 -0.16806 0.9463 C -0.09983 0.95787 -0.09063 0.95602 -0.01962 0.95926 C 0.08784 0.95324 0.13437 0.94931 0.23194 0.92037 C 0.25225 0.90255 0.27274 0.88449 0.29305 0.86667 C 0.30468 0.85648 0.30955 0.83704 0.31805 0.82222 C 0.33715 0.78889 0.35069 0.75787 0.35694 0.71667 C 0.34739 0.64606 0.28611 0.63958 0.24305 0.62407 C 0.18402 0.60278 0.12656 0.58287 0.06527 0.57593 C 0.03784 0.57292 -0.03976 0.57106 -0.06806 0.57037 C -0.13143 0.57222 -0.19063 0.57593 -0.25278 0.57963 C -0.10938 0.47037 0.06111 0.48125 0.21805 0.44074 C 0.29514 0.42083 0.37534 0.41111 0.45139 0.38519 C 0.46701 0.37986 0.48211 0.37222 0.49722 0.36458 C 0.50538 0.36065 0.52795 0.34329 0.52083 0.35 C 0.43021 0.43356 0.32378 0.47801 0.22222 0.53148 C 0.06076 0.61667 -0.10157 0.72014 -0.27778 0.73704 C -0.28334 0.73588 -0.2915 0.73981 -0.29445 0.73333 C -0.29792 0.72593 -0.29341 0.71574 -0.29167 0.70741 C -0.28733 0.68565 -0.28108 0.66458 -0.27361 0.64444 C -0.25747 0.60116 -0.23941 0.55926 -0.22223 0.51667 C -0.17518 0.40069 -0.19375 0.44676 -0.11945 0.2963 C -0.09914 0.25509 -0.08229 0.21111 -0.06389 0.16852 C -0.0592 0.15718 -0.05 0.13495 -0.05 0.13495 C -0.04792 0.12407 -0.03993 0.09491 -0.04584 0.08148 C -0.04723 0.07824 -0.05139 0.08264 -0.05417 0.08333 C -0.0915 0.1456 -0.11979 0.22523 -0.13611 0.30185 C -0.14045 0.32245 -0.14184 0.34398 -0.14584 0.36458 C -0.15625 0.41829 -0.15816 0.4162 -0.17778 0.46481 C -0.18247 0.49329 -0.18698 0.52153 -0.19167 0.55 C -0.19358 0.56111 -0.19375 0.57292 -0.19723 0.58333 C -0.21216 0.62847 -0.2283 0.67269 -0.24723 0.71481 C -0.24966 0.70185 -0.23993 0.67569 -0.23611 0.66458 C -0.22361 0.62986 -0.18768 0.55301 -0.17778 0.53148 C -0.13559 0.44005 -0.08091 0.36667 -0.02917 0.28333 C -0.0165 0.26273 0.00139 0.24884 0.01527 0.22963 C 0.05989 0.16782 0.08038 0.11597 0.1375 0.08333 C 0.14253 0.08403 0.14791 0.0831 0.15277 0.08519 C 0.15486 0.08588 0.16198 0.11458 0.1625 0.11667 C 0.16354 0.13264 0.16701 0.14861 0.16666 0.16458 C 0.16389 0.33333 0.10711 0.47731 0.04583 0.62014 C 0.0276 0.66296 0.00746 0.70509 -0.01268 0.7463 C -0.02483 0.77153 -0.02257 0.77569 -0.04167 0.79259 C -0.07431 0.78079 -0.07448 0.76343 -0.09167 0.72778 C -0.11441 0.68009 -0.10643 0.70856 -0.12084 0.66852 C -0.13681 0.62454 -0.15122 0.57338 -0.17084 0.53148 C -0.17743 0.49931 -0.1875 0.46944 -0.19306 0.43704 C -0.19514 0.3956 -0.1974 0.3831 -0.19445 0.3463 C -0.18941 0.28449 -0.17118 0.24051 -0.15 0.18704 C -0.14445 0.17315 -0.1408 0.15787 -0.13473 0.14444 C -0.1283 0.13009 -0.11927 0.11782 -0.1125 0.1037 C -0.10625 0.09074 -0.10191 0.07593 -0.09584 0.06296 C -0.08212 0.03287 -0.08785 0.05116 -0.07084 0.02407 C -0.06337 0.01227 -0.06007 -0.00556 -0.05 -0.01296 C -0.03039 -0.02778 -0.04167 -0.01921 -0.01684 -0.03889 C -0.0099 -0.04421 -0.00087 -0.04144 0.00694 -0.04259 C 0.02309 -0.04028 0.03437 -0.04282 0.04722 -0.02963 C 0.08055 0.00509 0.09496 0.06968 0.10555 0.12014 C 0.10989 0.14097 0.11614 0.16065 0.11944 0.18148 C 0.12586 0.22315 0.13472 0.30741 0.13472 0.30741 C 0.13611 0.3625 0.13663 0.41944 0.12916 0.47407 C 0.12205 0.52662 0.11927 0.51898 0.10277 0.56644 C 0.06423 0.67847 0.01336 0.77894 -0.07639 0.82407 C -0.09618 0.83403 -0.11389 0.83519 -0.13473 0.83889 C -0.19653 0.83495 -0.23785 0.82986 -0.28889 0.78333 C -0.30573 0.74074 -0.3092 0.72014 -0.3125 0.67222 C -0.30295 0.61667 -0.2967 0.54282 -0.27361 0.49444 C -0.24497 0.43449 -0.16979 0.30995 -0.12778 0.27037 C -0.08282 0.22801 -0.0408 0.17917 0.00833 0.1463 C 0.02031 0.13819 0.03211 0.1294 0.04444 0.12222 C 0.0618 0.11204 0.09722 0.09444 0.09722 0.09444 C 0.10746 0.09699 0.11857 0.09537 0.12777 0.10185 C 0.13159 0.10463 0.13107 0.11273 0.13194 0.11852 C 0.13437 0.13449 0.13663 0.17639 0.1375 0.18889 C 0.13368 0.35532 0.11771 0.54097 0.05694 0.69074 C 0.03385 0.74745 0.00347 0.8206 -0.04445 0.84444 C -0.04792 0.8419 -0.05174 0.84074 -0.05417 0.83704 C -0.0625 0.82477 -0.06493 0.74352 -0.06528 0.73889 C -0.0632 0.57986 -0.05 0.41204 0.00694 0.26852 C 0.04132 0.18148 0.10416 0.11528 0.16389 0.06111 C 0.18767 0.03958 0.21857 0.01273 0.24722 0.00185 C 0.27396 -0.00833 0.30295 -0.00995 0.33055 -0.01296 C 0.36632 -0.01065 0.36927 -0.00625 0.4 0.01667 C 0.41788 0.04514 0.42448 0.06944 0.43055 0.10532 C 0.43871 0.20995 0.4276 0.33426 0.38611 0.42593 C 0.37413 0.45255 0.36128 0.47847 0.35 0.50556 C 0.30468 0.61458 0.32205 0.61806 0.23194 0.73519 C 0.1585 0.83032 0.07552 0.9544 -0.03473 0.96667 C -0.05295 0.95694 -0.05452 0.95903 -0.0625 0.93519 C -0.06875 0.87454 -0.07188 0.82083 -0.06389 0.75741 C -0.04566 0.61296 3.33333000000075E-006 0.50903 0.05416 0.38148 C 0.07847 0.32407 0.08333 0.31134 0.11527 0.26111 C 0.13177 0.23519 0.14635 0.20579 0.16666 0.18519 C 0.17448 0.17685 0.19027 0.16111 0.19027 0.16111 C 0.18402 0.19884 0.16284 0.22106 0.14583 0.25185 C 0.13038 0.27963 0.11597 0.30856 0.10139 0.33704 C 0.09097 0.35718 0.07986 0.37685 0.07083 0.39815 C 0.05746 0.42894 0.04514 0.46644 0.01666 0.47593 C -0.00278 0.46944 -0.00434 0.46782 -0.01684 0.44815 C -0.0191 0.43148 -0.01858 0.4419 -0.01407 0.41667 C -0.01302 0.41227 -0.00573 0.40903 -0.00573 0.40903 C -0.03212 0.39167 -0.05486 0.42199 -0.07778 0.43148 C -0.08316 0.43356 -0.08889 0.43264 -0.09445 0.43333 C -0.3066 0.41944 -0.20747 0.42801 -0.39167 0.40903 C -0.49462 0.38657 -0.53837 0.38542 -0.63473 0.33148 C -0.65573 0.31968 -0.67361 0.29931 -0.69306 0.28333 C -0.69254 0.22708 -0.69497 0.17083 -0.69167 0.11481 C -0.69115 0.10648 -0.67205 0.07593 -0.66945 0.07037 C -0.63872 0.00579 -0.67795 0.06481 -0.61528 -0.01111 C -0.5875 -0.04491 -0.5599 -0.0794 -0.53334 -0.11481 C -0.52327 -0.12824 -0.51025 -0.13704 -0.49861 -0.14815 C -0.48525 -0.16088 -0.47361 -0.17639 -0.46111 -0.19074 C -0.44479 -0.20949 -0.43056 -0.2375 -0.4125 -0.25185 C -0.39879 -0.24282 -0.38403 -0.21343 -0.37084 -0.2 C -0.34879 -0.17755 -0.32257 -0.16181 -0.29584 -0.15185 C -0.17431 -0.10648 -0.0467 -0.08241 0.07916 -0.06852 C 0.08576 -0.06644 0.09739 -0.06458 0.10277 -0.05741 C 0.10781 -0.05069 0.11302 -0.04375 0.11944 -0.03889 C 0.13194 -0.03032 0.14323 -0.02454 0.15416 -0.01296 C 0.17014 0.02963 0.14253 0.10069 0.12777 0.13148 C 0.11944 0.14884 0.11319 0.16806 0.10277 0.18333 C 0.06215 0.24329 0.0059 0.25995 -0.04584 0.29444 C -0.06667 0.3081 -0.08473 0.32778 -0.10556 0.34074 C -0.14601 0.36597 -0.18802 0.38634 -0.22917 0.40903 C -0.24896 0.42014 -0.29306 0.44074 -0.31667 0.4463 C -0.3191 0.44676 -0.31198 0.44375 -0.30973 0.44259 C -0.29514 0.3956 -0.27726 0.36574 -0.25417 0.32407 C -0.17014 0.17222 -0.31146 0.41042 -0.14723 0.14074 C -0.13542 0.12153 -0.12934 0.09699 -0.11945 0.07593 C -0.09132 0.0162 -0.05851 -0.03889 -0.04028 -0.10556 C -0.04514 -0.11852 -0.04254 -0.11759 -0.05556 -0.09815 C -0.07361 -0.07083 -0.09098 -0.04282 -0.10834 -0.01481 C -0.17483 0.0919 -0.15799 0.06921 -0.24028 0.22778 C -0.28993 0.32338 -0.34896 0.40972 -0.40556 0.49815 C -0.46684 0.59421 -0.43542 0.53241 -0.47223 0.61111 C -0.47344 0.61366 -0.46806 0.60787 -0.46667 0.60532 C -0.4625 0.59861 -0.46025 0.58981 -0.45556 0.58333 C -0.43594 0.55625 -0.41511 0.53102 -0.39445 0.50556 C -0.36077 0.46412 -0.32691 0.42269 -0.29306 0.38148 C -0.22795 0.30208 -0.15868 0.22963 -0.09028 0.15556 C -0.03525 0.09606 0.01961 0.03565 0.07777 -0.01852 C 0.07916 -0.01991 0.075 -0.01597 0.07361 -0.01481 C 0.06736 -0.00926 0.06284 -0.00069 0.05833 0.00741 C 0.05017 0.02222 0.04323 0.03796 0.03611 0.0537 C 0.0059 0.1213 -0.01823 0.19097 -0.04167 0.26296 C -0.0441 0.28125 -0.05486 0.32292 -0.04445 0.34259 C -0.04184 0.34745 -0.02952 0.34792 -0.02795 0.34815 C 0.01076 0.33727 0.04687 0.31644 0.08472 0.30185 C 0.0993 0.29606 0.11475 0.29375 0.12916 0.28704 C 0.14166 0.28125 0.15295 0.2713 0.16527 0.26481 C 0.19305 0.25023 0.2243 0.23542 0.25416 0.22963 C 0.25955 0.24051 0.25746 0.23218 0.24861 0.24815 C 0.246 0.25278 0.24461 0.2588 0.24166 0.26296 C 0.23177 0.27708 0.21406 0.28981 0.2 0.29259 C 0.18854 0.29838 0.17708 0.30116 0.16527 0.30556 C 0.14062 0.30278 0.1158 0.30463 0.09583 0.28333 C 0.09496 0.28079 0.0934 0.2787 0.09305 0.27593 C 0.09201 0.26481 0.09427 0.25324 0.09166 0.24259 C 0.09045 0.23773 0.07673 0.22454 0.07361 0.22037 C 0.06545 0.20949 0.06371 0.19491 0.05694 0.18333 C 0.05208 0.175 0.04618 0.16806 0.04166 0.15926 C 0.03993 0.14722 0.03941 0.1338 0.03611 0.12222 C 0.0335 0.11296 0.02899 0.10602 0.025 0.09815 C 0.01718 0.08264 0.01059 0.06435 -0.00139 0.0537 C -0.00226 0.05116 -0.00278 0.04815 -0.00434 0.0463 C -0.00712 0.04259 -0.01268 0.0463 -0.00434 0.04259 C 0.00052 0.03333 0.00173 0.03958 0.00416 0.02963 C 0.00364 0.02222 0.00434 0.01458 0.00277 0.00741 C -0.00018 -0.00532 -0.00452 0.01782 3.33333E-006 -3.7037E-007 Z">
                                      <p:cBhvr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4861 0.01783 -0.47152 0.13218 -0.40833 0.13519 C -0.34513 0.1382 0.28386 0.12431 0.37917 0.01852 C 0.47448 -0.08727 0.27101 -0.47893 0.16372 -0.5 C 0.05678 -0.52106 -0.27691 -0.14282 -0.26388 -0.10741 C -0.25086 -0.07199 0.2507 -0.30278 0.24167 -0.28704 C 0.23247 -0.2713 -0.3375 -0.04143 -0.31805 -0.01296 C -0.29861 0.01551 0.32483 -0.12338 0.35834 -0.11667 C 0.39184 -0.10995 -0.05677 0.00833 -0.11666 0.02778 C -0.17656 0.04722 0.04862 -0.01782 0 0 Z">
                                      <p:cBhvr>
                                        <p:cTn id="29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4861 0.01783 -0.47152 0.13218 -0.40833 0.13519 C -0.34513 0.1382 0.28386 0.12431 0.37917 0.01852 C 0.47448 -0.08727 0.27101 -0.47893 0.16372 -0.5 C 0.05678 -0.52106 -0.27691 -0.14282 -0.26388 -0.10741 C -0.25086 -0.07199 0.2507 -0.30278 0.24167 -0.28704 C 0.23247 -0.2713 -0.3375 -0.04143 -0.31805 -0.01296 C -0.29861 0.01551 0.32483 -0.12338 0.35834 -0.11667 C 0.39184 -0.10995 -0.05677 0.00833 -0.11666 0.02778 C -0.17656 0.04722 0.04862 -0.01782 0 0 Z">
                                      <p:cBhvr>
                                        <p:cTn id="31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4861 0.01783 -0.47152 0.13218 -0.40833 0.13519 C -0.34513 0.1382 0.28386 0.12431 0.37917 0.01852 C 0.47448 -0.08727 0.27101 -0.47893 0.16372 -0.5 C 0.05678 -0.52106 -0.27691 -0.14282 -0.26388 -0.10741 C -0.25086 -0.07199 0.2507 -0.30278 0.24167 -0.28704 C 0.23247 -0.2713 -0.3375 -0.04143 -0.31805 -0.01296 C -0.29861 0.01551 0.32483 -0.12338 0.35834 -0.11667 C 0.39184 -0.10995 -0.05677 0.00833 -0.11666 0.02778 C -0.17656 0.04722 0.04862 -0.01782 0 0 Z">
                                      <p:cBhvr>
                                        <p:cTn id="33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4861 0.01783 -0.47152 0.13218 -0.40833 0.13519 C -0.34513 0.1382 0.28386 0.12431 0.37917 0.01852 C 0.47448 -0.08727 0.27101 -0.47893 0.16372 -0.5 C 0.05678 -0.52106 -0.27691 -0.14282 -0.26388 -0.10741 C -0.25086 -0.07199 0.2507 -0.30278 0.24167 -0.28704 C 0.23247 -0.2713 -0.3375 -0.04143 -0.31805 -0.01296 C -0.29861 0.01551 0.32483 -0.12338 0.35834 -0.11667 C 0.39184 -0.10995 -0.05677 0.00833 -0.11666 0.02778 C -0.17656 0.04722 0.04862 -0.01782 0 0 Z">
                                      <p:cBhvr>
                                        <p:cTn id="35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4861 0.01783 -0.47152 0.13218 -0.40833 0.13519 C -0.34513 0.1382 0.28386 0.12431 0.37917 0.01852 C 0.47448 -0.08727 0.27101 -0.47893 0.16372 -0.5 C 0.05678 -0.52106 -0.27691 -0.14282 -0.26388 -0.10741 C -0.25086 -0.07199 0.2507 -0.30278 0.24167 -0.28704 C 0.23247 -0.2713 -0.3375 -0.04143 -0.31805 -0.01296 C -0.29861 0.01551 0.32483 -0.12338 0.35834 -0.11667 C 0.39184 -0.10995 -0.05677 0.00833 -0.11666 0.02778 C -0.17656 0.04722 0.04862 -0.01782 0 0 Z">
                                      <p:cBhvr>
                                        <p:cTn id="37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Ruth Hand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bie named after her daughter Bar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 named after her 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jected when first tried selling Barb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w her children playing with cardboard dolls and wanted to improve on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951 0.0132 0.00069 -0.00254 0.01805 0.01297 C 0.02013 0.01482 0.02274 0.01505 0.025 0.01667 C 0.03263 0.02223 0.03715 0.0294 0.04288 0.03704 C 0.04826 0.04398 0.05416 0.04908 0.05833 0.05741 C 0.06041 0.06875 0.07083 0.09769 0.05694 0.10185 C 0.05243 0.10324 0.04774 0.10301 0.04288 0.10371 C 0.01875 0.10093 -0.00678 0.09861 -0.03056 0.09074 C -0.03195 0.08959 -0.03351 0.08866 -0.0349 0.08704 C -0.04254 0.07662 -0.02778 0.07662 -0.02362 0.07593 C -0.00625 0.07986 0.0125 0.0963 0.025 0.11297 C 0.03576 0.12732 0.02795 0.12153 0.04027 0.13519 C 0.04739 0.14306 0.05277 0.14746 0.05833 0.15741 C 0.05781 0.16181 0.05816 0.16621 0.05694 0.17037 C 0.05572 0.17454 0.05138 0.18148 0.05138 0.18148 C 0.03854 0.1794 0.04201 0.18125 0.03055 0.17408 C 0.025 0.1706 0.01388 0.16297 0.01388 0.16297 C 0.00572 0.14954 -0.00469 0.14005 -0.01389 0.12778 C -0.02205 0.09514 0.0184 0.08704 0.03333 0.08519 C 0.04826 0.08727 0.06319 0.08866 0.07777 0.0926 C 0.08281 0.10278 0.07534 0.10093 0.06944 0.11111 C 0.06684 0.11574 0.06545 0.12176 0.0625 0.12593 C 0.05364 0.13866 0.03454 0.14375 0.025 0.14815 C 0.02083 0.15 0.0125 0.15371 0.0125 0.15371 C 0.00277 0.15278 -0.00782 0.15533 -0.01667 0.15 C -0.02223 0.14676 -0.0257 0.1382 -0.03056 0.13334 C -0.03594 0.11204 -0.03421 0.12246 -0.03612 0.10185 C -0.03403 0.07431 -0.03577 0.07894 -0.01389 0.07223 C -0.000529999999999999 0.05949 0.01302 0.05116 0.02916 0.04815 C 0.00034 0.0963 -0.08021 0.09792 -0.12084 0.10556 C -0.19115 0.1044 -0.26181 0.11019 -0.33195 0.10185 C -0.34098 0.1007 -0.31632 0.08935 -0.30834 0.08334 C -0.28247 0.06343 -0.25747 0.04121 -0.23056 0.02408 C -0.14601 -0.02963 -0.06216 -0.0787 0.03194 -0.08333 C 0.03663 -0.08148 0.05 -0.08102 0.04583 -0.07777 C 0.0177 -0.05578 -0.02657 -0.05324 -0.05695 -0.04815 C -0.15834 -0.05995 -0.25504 -0.04236 -0.35556 -0.02407 C -0.36893 -0.01852 -0.3823 -0.01227 -0.39584 -0.0074 C -0.40313 -0.00486 -0.41129 0.00255 -0.41806 -0.00185 C -0.42414 -0.00578 -0.40521 -0.0074 -0.39862 -0.00926 C -0.38438 -0.01296 -0.36997 -0.0162 -0.35556 -0.01852 C -0.32743 -0.02291 -0.29914 -0.02662 -0.27084 -0.02963 C -0.16823 -0.04051 -0.15903 -0.03912 -0.05695 -0.04259 C -0.03195 -0.05254 -0.00799 -0.06944 0.01805 -0.07222 C 0.07152 -0.07777 0.12482 -0.05926 0.17638 -0.04444 C 0.19097 -0.025 0.19444 -0.025 0.14027 -0.01111 C 0.09444 0.000699999999999999 0.04861 0.01273 0.00277 0.02408 C -0.14341 0.06065 -0.0658 0.04514 -0.24306 0.05556 C -0.34549 0.06158 -0.44757 0.07385 -0.55 0.07963 C -0.55365 0.08033 -0.56459 0.0831 -0.56112 0.08148 C -0.50261 0.05556 -0.44202 0.04769 -0.38195 0.02963 C -0.15903 -0.03727 -0.27934 0.00348 -0.15834 -0.05926 C -0.09809 -0.09051 -0.13733 -0.06504 -0.1125 -0.08148 C -0.17778 -0.10625 -0.11303 -0.08287 -0.29445 -0.08889 C -0.36441 -0.0912 -0.43421 -0.09537 -0.50417 -0.09815 C -0.53334 -0.0993 -0.5625 -0.10046 -0.59167 -0.10185 C -0.625 -0.10347 -0.69167 -0.1074 -0.69167 -0.1074 C -0.61875 -0.16921 -0.51702 -0.18102 -0.4375 -0.20185 C -0.37414 -0.21852 -0.30573 -0.22569 -0.24028 -0.23333 C -0.23247 -0.23264 -0.22414 -0.23472 -0.21667 -0.23148 C -0.21407 -0.23032 -0.22118 -0.22731 -0.22362 -0.22592 C -0.23282 -0.2206 -0.24167 -0.21389 -0.25139 -0.21111 C -0.27431 -0.20463 -0.29757 -0.20208 -0.32084 -0.19815 C -0.45365 -0.17523 -0.4007 -0.18217 -0.54445 -0.17777 C -0.6533 -0.17893 -0.76198 -0.1794 -0.87084 -0.18148 C -0.91563 -0.1824 -0.90556 -0.17847 -0.925 -0.18703 C -0.90365 -0.20602 -0.82275 -0.21412 -0.81667 -0.21481 C -0.75296 -0.22338 -0.62952 -0.23078 -0.56806 -0.23518 C -0.37934 -0.23333 -0.24098 -0.25092 -0.07084 -0.20555 C -0.12379 -0.17014 -0.17726 -0.16203 -0.23473 -0.14444 C -0.27483 -0.13217 -0.31389 -0.11435 -0.35417 -0.1037 C -0.55903 -0.04953 -0.7698 -0.04652 -0.97778 -0.04259 C -0.83941 -0.06574 -0.70035 -0.06458 -0.56112 -0.07037 C -0.43282 -0.06643 -0.31233 -0.0662 -0.18612 -0.05 C -0.17448 -0.0449 -0.20209 -0.03958 -0.21667 -0.03518 C -0.23785 -0.02893 -0.25903 -0.02268 -0.28056 -0.01852 C -0.35122 -0.00486 -0.4224 0.00625 -0.49306 0.01852 C -0.59514 0.03635 -0.7 0.03611 -0.80278 0.04074 C -0.81667 0.03889 -0.8323 0.04422 -0.84445 0.03519 C -0.84966 0.03148 -0.83559 0.02454 -0.83056 0.02037 C -0.81789 0.00973 -0.80539 -0.00115 -0.79167 -0.00926 C -0.75625 -0.03032 -0.65955 -0.075 -0.625 -0.08703 C -0.58785 -0.1 -0.54983 -0.10694 -0.5125 -0.11852 C -0.37917 -0.15949 -0.44046 -0.15139 -0.30834 -0.17407 C -0.28073 -0.17893 -0.25278 -0.18102 -0.225 -0.18518 C -0.20782 -0.18773 -0.1908 -0.19166 -0.17362 -0.19444 C -0.16806 -0.19537 -0.15139 -0.19629 -0.15695 -0.19629 C -0.17726 -0.19629 -0.19775 -0.19514 -0.21806 -0.19444 C -0.28837 -0.18657 -0.35782 -0.17639 -0.42778 -0.16481 C -0.44132 -0.1625 -0.46806 -0.15555 -0.46806 -0.15555 C -0.44844 -0.18171 -0.4224 -0.18402 -0.39723 -0.19815 C -0.37969 -0.20787 -0.36389 -0.22315 -0.34584 -0.23148 C -0.2323 -0.28356 -0.24237 -0.27801 -0.15695 -0.29259 C -0.13612 -0.2919 -0.11511 -0.29328 -0.09445 -0.29074 C -0.09254 -0.29051 -0.09705 -0.28657 -0.09879 -0.28518 C -0.11268 -0.27291 -0.12743 -0.2618 -0.14167 -0.25 C -0.16059 -0.23449 -0.18021 -0.22083 -0.2 -0.2074 C -0.30296 -0.13796 -0.24757 -0.17893 -0.36389 -0.11852 C -0.39497 -0.10254 -0.42448 -0.08217 -0.45556 -0.06666 C -0.48143 -0.0537 -0.50816 -0.04352 -0.53473 -0.03333 C -0.55452 -0.02569 -0.57483 -0.02106 -0.59445 -0.01296 C -0.679 0.02223 -0.61615 0.0007 -0.61389 0 C -0.58907 -0.02893 -0.61789 0.00209 -0.56806 -0.03333 C -0.52969 -0.06065 -0.49219 -0.09004 -0.45417 -0.11852 C -0.35035 -0.19606 -0.2316 -0.26412 -0.11528 -0.3 C -0.09618 -0.30578 -0.07639 -0.30555 -0.05695 -0.30926 C -0.01077 -0.37083 0.06007 -0.40764 0.12222 -0.43518 C 0.10173 -0.40393 0.08819 -0.37777 0.06111 -0.35 C 0.04722 -0.33588 0.03298 -0.32222 0.01944 -0.3074 C -0.03247 -0.25069 -0.00139 -0.275 -0.06112 -0.22222 C -0.08577 -0.20046 -0.11268 -0.18333 -0.13612 -0.15926 C -0.17466 -0.11967 -0.15868 -0.13125 -0.18056 -0.11666 C -0.16337 -0.15486 -0.11441 -0.20717 -0.0875 -0.23333 C -0.05209 -0.26782 -0.01546 -0.30023 0.02083 -0.33333 C 0.05694 -0.3662 0.09079 -0.39861 0.13333 -0.41481 C 0.10729 -0.36273 0.05434 -0.33634 0.01527 -0.3074 C -0.00487 -0.29259 -0.02344 -0.27384 -0.04445 -0.26111 C -0.14184 -0.20139 -0.24705 -0.1794 -0.35278 -0.16852 C -0.41737 -0.17523 -0.47431 -0.18171 -0.53473 -0.21296 C -0.56268 -0.24236 -0.57657 -0.25254 -0.57917 -0.30185 C -0.57518 -0.42176 -0.52292 -0.53796 -0.45695 -0.61852 C -0.44428 -0.63402 -0.40695 -0.68148 -0.38473 -0.68889 C -0.41702 -0.6243 -0.4665 -0.57569 -0.51806 -0.54074 C -0.5573 -0.51412 -0.5948 -0.47963 -0.6375 -0.46481 C -0.70382 -0.4419 -0.76493 -0.42315 -0.83334 -0.41852 C -0.86528 -0.42129 -0.88855 -0.4199 -0.91389 -0.44629 C -0.91945 -0.49768 -0.88525 -0.54074 -0.86528 -0.57777 C -0.84809 -0.60949 -0.79115 -0.66481 -0.75573 -0.68148 C -0.7257 -0.69537 -0.69514 -0.69629 -0.66389 -0.7 C -0.48559 -0.6949 -0.31737 -0.61527 -0.15278 -0.52963 C -0.10625 -0.50532 -0.05782 -0.48102 -0.01667 -0.44259 C -0.00782 -0.425 -0.054 -0.41551 -0.06389 -0.41296 C -0.11528 -0.4 -0.16719 -0.39722 -0.21945 -0.39444 C -0.33612 -0.41065 -0.46459 -0.42801 -0.575 -0.47963 C -0.62639 -0.5037 -0.67657 -0.5331 -0.72917 -0.55185 C -0.7599 -0.56296 -0.8033 -0.56921 -0.82778 -0.60185 C -0.82553 -0.6118 -0.82431 -0.62384 -0.81806 -0.63148 C -0.79636 -0.6581 -0.75747 -0.6581 -0.73056 -0.66111 C -0.6257 -0.65902 -0.52639 -0.64815 -0.42362 -0.61852 C -0.37483 -0.6044 -0.32136 -0.5875 -0.27917 -0.55 C -0.27553 -0.54259 -0.27639 -0.53657 -0.28334 -0.53148 C -0.29549 -0.52268 -0.30834 -0.51551 -0.32084 -0.5074 C -0.38976 -0.46319 -0.46875 -0.44213 -0.54445 -0.43703 C -0.55417 -0.43889 -0.56389 -0.44051 -0.57362 -0.44259 C -0.57587 -0.44305 -0.57882 -0.44236 -0.58056 -0.44444 C -0.58195 -0.44606 -0.58143 -0.4493 -0.58195 -0.45185 C -0.5757 -0.50486 -0.57796 -0.49213 -0.54723 -0.52407 C -0.53907 -0.53264 -0.53334 -0.54629 -0.52362 -0.55185 C -0.45469 -0.59097 -0.41719 -0.59791 -0.35 -0.61666 C -0.26355 -0.61527 -0.12848 -0.63981 -0.0625 -0.53703 C -0.06059 -0.52245 -0.06598 -0.51921 -0.075 -0.50926 C -0.09566 -0.4868 -0.11563 -0.4699 -0.14028 -0.45555 C -0.24775 -0.39282 -0.35799 -0.37384 -0.47362 -0.36852 C -0.60087 -0.38171 -0.76459 -0.38264 -0.86667 -0.5074 C -0.88716 -0.58055 -0.81684 -0.61759 -0.77518 -0.63148 C -0.76407 -0.63518 -0.75278 -0.6368 -0.74167 -0.63889 C -0.72969 -0.6412 -0.71771 -0.64328 -0.70556 -0.64444 C -0.68803 -0.64629 -0.67032 -0.64699 -0.65278 -0.64815 C -0.60556 -0.64699 -0.57032 -0.65208 -0.52778 -0.63148 C -0.52188 -0.6074 -0.52275 -0.6169 -0.56112 -0.58518 C -0.60365 -0.55 -0.64636 -0.51481 -0.68889 -0.47963 C -0.71771 -0.45578 -0.74914 -0.43773 -0.78056 -0.42037 C -0.84931 -0.38264 -0.98889 -0.31481 -0.98889 -0.31481 C -0.9908 -0.30069 -0.98959 -0.25926 -0.99445 -0.27222 C -0.99966 -0.28611 -0.99271 -0.30324 -0.99028 -0.31852 C -0.98021 -0.38032 -0.90139 -0.42453 -0.87223 -0.44629 C -0.84549 -0.4662 -0.79688 -0.50092 -0.76806 -0.51111 C -0.70313 -0.53426 -0.63056 -0.5331 -0.56389 -0.53703 C -0.50469 -0.53449 -0.44497 -0.53703 -0.38612 -0.52777 C -0.36198 -0.52407 -0.33803 -0.51643 -0.31389 -0.51296 C -0.30973 -0.51227 -0.30556 -0.5118 -0.30139 -0.51111 C -0.30573 -0.4875 -0.32379 -0.47639 -0.33612 -0.46111 C -0.34862 -0.4456 -0.35938 -0.42777 -0.37223 -0.41296 C -0.45799 -0.31342 -0.54636 -0.2169 -0.65973 -0.18333 C -0.675 -0.18842 -0.66025 -0.20162 -0.65417 -0.20926 C -0.61303 -0.25995 -0.57691 -0.30995 -0.52362 -0.33889 C -0.4066 -0.40254 -0.30539 -0.42662 -0.17917 -0.43333 C -0.10625 -0.43148 -0.00816 -0.43078 0.05555 -0.37407 C 0.05 -0.35555 0.04253 -0.35764 0.02638 -0.34815 C 0.00816 -0.3375 0.01875 -0.34236 -0.00278 -0.33518 C -0.02657 -0.33842 -0.05157 -0.33819 -0.07362 -0.3537 C -0.09323 -0.36759 -0.10973 -0.39768 -0.12084 -0.42222 C -0.125 -0.4581 -0.12292 -0.48842 -0.10139 -0.51481 C -0.09549 -0.52199 -0.0882 -0.52685 -0.08195 -0.53333 C -0.07622 -0.53912 -0.07153 -0.54699 -0.06528 -0.55185 C -0.05695 -0.55833 -0.03889 -0.56666 -0.03889 -0.56666 C -0.02761 -0.56296 -0.03212 -0.5669 -0.04445 -0.54629 C -0.06684 -0.50926 -0.10087 -0.49537 -0.12917 -0.47037 C -0.14393 -0.45717 -0.15573 -0.43842 -0.17084 -0.42592 C -0.19202 -0.4081 -0.25712 -0.37268 -0.27917 -0.36111 C -0.32657 -0.33657 -0.37535 -0.31597 -0.42639 -0.31111 C -0.43004 -0.31227 -0.43421 -0.31227 -0.4375 -0.31481 C -0.4448 -0.32014 -0.43091 -0.35277 -0.43056 -0.3537 C -0.42084 -0.37569 -0.40452 -0.4 -0.39167 -0.41666 C -0.329 -0.49838 -0.24653 -0.56643 -0.15834 -0.58333 C -0.14011 -0.5794 -0.15695 -0.56435 -0.16528 -0.5574 C -0.18473 -0.5412 -0.20521 -0.52662 -0.225 -0.51111 C -0.24202 -0.49791 -0.26285 -0.49676 -0.28195 -0.49074 C -0.33733 -0.47291 -0.32813 -0.47777 -0.39046 -0.47407 C -0.45191 -0.47801 -0.49671 -0.49213 -0.55556 -0.51481 C -0.57414 -0.53055 -0.59289 -0.54027 -0.60278 -0.56852 C -0.60573 -0.57708 -0.60469 -0.58703 -0.60556 -0.59629 C -0.60157 -0.64375 -0.5875 -0.6824 -0.5625 -0.71852 C -0.54636 -0.7419 -0.52726 -0.7618 -0.50973 -0.78333 C -0.50365 -0.79074 -0.49462 -0.79259 -0.4875 -0.79815 C -0.4849 -0.8 -0.47813 -0.80764 -0.48056 -0.80555 C -0.51771 -0.77407 -0.56007 -0.75717 -0.59723 -0.72592 C -0.62639 -0.70139 -0.64862 -0.68009 -0.68195 -0.66481 C -0.70504 -0.6544 -0.72934 -0.64953 -0.75278 -0.64074 C -0.82292 -0.61412 -0.89375 -0.5787 -0.96528 -0.5574 C -0.95712 -0.57361 -0.93369 -0.59328 -0.92223 -0.6 C -0.87153 -0.62963 -0.79358 -0.6699 -0.73629 -0.68518 C -0.70278 -0.69398 -0.66841 -0.69514 -0.63473 -0.70185 C -0.48577 -0.69861 -0.34063 -0.69259 -0.19584 -0.64259 C -0.1382 -0.62268 -0.0691 -0.60092 -0.02362 -0.54629 C -0.0099 -0.50995 -0.04879 -0.4787 -0.06684 -0.46296 C -0.15296 -0.38703 -0.24983 -0.35879 -0.35157 -0.34444 C -0.44671 -0.35277 -0.48073 -0.33889 -0.55278 -0.4 C -0.56355 -0.43217 -0.55296 -0.45416 -0.53195 -0.47222 C -0.49063 -0.50787 -0.44497 -0.53379 -0.39584 -0.54259 C -0.37049 -0.54722 -0.34497 -0.54629 -0.31945 -0.54815 C -0.26893 -0.54629 -0.21806 -0.55208 -0.16806 -0.54259 C -0.01146 -0.51319 0.13142 -0.41041 0.28888 -0.38703 C 0.29097 -0.38773 0.29479 -0.38611 0.29583 -0.38889 C 0.2967 -0.3912 0.29218 -0.39074 0.29027 -0.39074 C 0.23281 -0.39305 0.17552 -0.39444 0.11805 -0.39629 C 0.09149 -0.40648 0.07447 -0.40208 0.06527 -0.43889 C 0.06336 -0.45648 0.06371 -0.47361 0.06805 -0.49074 C 0.06857 -0.48819 0.06753 -0.48402 0.06944 -0.48333 C 0.07135 -0.48264 0.07222 -0.48703 0.07361 -0.48889 C 0.08055 -0.49699 0.08732 -0.50509 0.09444 -0.51296 C 0.10052 -0.5199 0.11493 -0.53518 0.12222 -0.54074 C 0.1335 -0.5493 0.14531 -0.55671 0.15694 -0.56481 C 0.16319 -0.56921 0.17083 -0.56805 0.17777 -0.57037 C 0.19149 -0.57477 0.20468 -0.58102 0.21805 -0.58703 C 0.21961 -0.58773 0.21527 -0.58449 0.21388 -0.58333 C 0.20659 -0.57754 0.19913 -0.57222 0.19166 -0.56666 C 0.17725 -0.55578 0.16163 -0.55532 0.14583 -0.55185 C 0.1375 -0.55463 0.13663 -0.55578 0.13333 -0.56666 C 0.13507 -0.58703 0.13281 -0.59629 0.14027 -0.61111 C 0.14322 -0.6169 0.15364 -0.63264 0.15 -0.62777 C 0.11666 -0.58333 0.07638 -0.5544 0.0375 -0.52037 C 0.02916 -0.51319 0.02239 -0.50277 0.01388 -0.49629 C -0.02101 -0.47083 -0.06181 -0.46319 -0.1 -0.45185 C -0.10834 -0.45301 -0.11702 -0.45185 -0.125 -0.45555 C -0.13143 -0.45856 -0.12275 -0.47477 -0.11806 -0.48148 C -0.11094 -0.49166 -0.10365 -0.50185 -0.09584 -0.51111 C -0.06997 -0.5412 -0.03073 -0.58125 -0.00139 -0.6037 C 0.10295 -0.68356 0.19548 -0.70023 0.3125 -0.7074 C 0.3467 -0.70555 0.38107 -0.70509 0.41527 -0.70185 C 0.44791 -0.69861 0.39791 -0.68032 0.39583 -0.67963 C 0.26632 -0.64236 0.3552 -0.66713 0.24444 -0.65185 C 0.10486 -0.63264 -0.0316 -0.61065 -0.17223 -0.60555 C -0.19601 -0.60694 -0.23212 -0.60324 -0.25834 -0.61481 C -0.26632 -0.64676 -0.20886 -0.67384 -0.19584 -0.67963 C -0.11094 -0.71782 -0.07587 -0.72801 0.01388 -0.73333 C 0.11545 -0.72963 0.20329 -0.72685 0.30138 -0.69815 C 0.33541 -0.68819 0.38524 -0.67777 0.41666 -0.65 C 0.4052 -0.64236 0.37899 -0.63981 0.36805 -0.63889 C 0.33107 -0.63588 0.25694 -0.63333 0.25694 -0.63333 C 0.03854 -0.64051 -0.17796 -0.64791 -0.39445 -0.69074 C -0.40261 -0.69467 -0.41702 -0.69398 -0.41806 -0.70555 C -0.41875 -0.71389 -0.40834 -0.72338 -0.40556 -0.72592 C -0.3849 -0.74375 -0.37275 -0.74537 -0.34584 -0.75347 C -0.24688 -0.78426 -0.14532 -0.78148 -0.04445 -0.78518 C 0.11423 -0.77453 0.26927 -0.75393 0.42638 -0.72222 C 0.42586 -0.69143 0.42986 -0.65972 0.425 -0.62963 C 0.42395 -0.62361 0.41579 -0.62824 0.41111 -0.62777 C 0.3967 -0.62592 0.38246 -0.62199 0.36805 -0.62037 C 0.31354 -0.61458 0.25885 -0.61759 0.20416 -0.61666 C 0.08333 -0.62291 -0.03455 -0.63634 -0.15417 -0.6574 C -0.19202 -0.66412 -0.24948 -0.68148 -0.28056 -0.71458 C -0.28282 -0.72662 -0.27396 -0.73333 -0.26528 -0.73518 C -0.22257 -0.74444 -0.20122 -0.7449 -0.15973 -0.74815 C -0.03351 -0.74652 0.08576 -0.73958 0.20972 -0.70926 C 0.27847 -0.69236 0.35503 -0.67477 0.41666 -0.62777 C 0.39982 -0.62037 0.34062 -0.63958 0.325 -0.64259 C 0.31215 -0.6449 0.29895 -0.64583 0.28611 -0.64815 C 0.25312 -0.65393 0.22031 -0.66041 0.1875 -0.66666 C 0.15451 -0.67291 0.12204 -0.68379 0.08871 -0.68889 C 0.07691 -0.69074 0.06475 -0.69259 0.05277 -0.69444 C 0.04722 -0.69629 0.04166 -0.69791 0.03611 -0.7 C 0.03333 -0.70115 0.02951 -0.70069 0.02777 -0.7037 C 0.02673 -0.70555 0.03038 -0.70648 0.03194 -0.7074 C 0.03454 -0.70902 0.0375 -0.71018 0.04027 -0.71111 C 0.04444 -0.7125 0.04861 -0.71342 0.05277 -0.71458 C 0.05833 -0.71666 0.06388 -0.71828 0.06944 -0.72037 C 0.0901 -0.72754 0.11076 -0.73356 0.13194 -0.73703 C 0.14409 -0.74236 0.12534 -0.73634 0.12222 -0.73518 C 0.11718 -0.72639 0.11649 -0.71666 0.1125 -0.7074 C 0.11163 -0.70555 0.11145 -0.70185 0.10972 -0.70185 C 0.10833 -0.70185 0.11041 -0.70578 0.11111 -0.7074 C 0.11302 -0.71203 0.11579 -0.71597 0.11805 -0.72037 C 0.11753 -0.71412 0.1177 -0.70787 0.11666 -0.70185 C 0.11632 -0.69977 0.11441 -0.69838 0.11388 -0.69629 C 0.11302 -0.69282 0.11302 -0.68889 0.1125 -0.68518 C 0.11302 -0.68333 0.1125 -0.6787 0.11388 -0.67963 C 0.11632 -0.68125 0.11649 -0.68588 0.11805 -0.68889 C 0.11927 -0.69143 0.12378 -0.69838 0.12222 -0.69629 C 0.12031 -0.69375 0.11857 -0.6912 0.11666 -0.68889 C 0.11545 -0.6875 0.11371 -0.68657 0.1125 -0.68518 C 0.11059 -0.68287 0.10885 -0.68032 0.10694 -0.67777 C 0.10555 -0.67847 0.10416 -0.68032 0.10277 -0.67963 C 0.10017 -0.67824 0.09913 -0.67453 0.09722 -0.67222 C 0.09201 -0.66643 0.08611 -0.66227 0.08055 -0.6574 C 0.07916 -0.66527 0.07812 -0.66551 0.08055 -0.67407 C 0.08107 -0.67615 0.08402 -0.67754 0.08333 -0.67963 C 0.08263 -0.68148 0.08055 -0.67847 0.07916 -0.67777 C 0.07725 -0.67592 0.07517 -0.6743 0.07361 -0.67222 C 0.07239 -0.6706 0.07204 -0.66805 0.07083 -0.66666 C 0.06614 -0.66134 0.05972 -0.65555 0.05416 -0.65185 C 0.05468 -0.6544 0.05486 -0.65694 0.05555 -0.65926 C 0.05625 -0.66134 0.06007 -0.66481 0.05833 -0.66481 C 0.05642 -0.66481 0.05572 -0.66088 0.05416 -0.65926 C 0.05243 -0.65717 0.05034 -0.65578 0.04861 -0.6537 C 0.04079 -0.64467 0.03229 -0.63727 0.02361 -0.62963 C 0.01527 -0.63703 0.01892 -0.64444 0.02361 -0.6537 C 0.02413 -0.65671 0.02447 -0.65995 0.025 -0.66296 C 0.02534 -0.66481 0.02777 -0.66782 0.02638 -0.66852 C 0.025 -0.66921 0.01805 -0.66203 0.01666 -0.66111 C 0.00451 -0.65254 -0.01007 -0.64143 -0.02362 -0.63703 C -0.0257 -0.65069 -0.02153 -0.65625 -0.01806 -0.67037 C -0.01771 -0.67245 -0.01407 -0.6743 -0.01528 -0.67592 C -0.01667 -0.67777 -0.01893 -0.67477 -0.02084 -0.67407 C -0.02553 -0.66481 -0.02223 -0.66967 -0.03195 -0.66111 C -0.05139 -0.64375 -0.03299 -0.65046 -0.04862 -0.64629 C -0.05417 -0.64143 -0.05573 -0.63796 -0.05139 -0.65555 C -0.05053 -0.65902 -0.04532 -0.66736 -0.04723 -0.66481 C -0.05087 -0.65995 -0.0533 -0.65301 -0.05695 -0.64815 C -0.05973 -0.64444 -0.06233 -0.64051 -0.06528 -0.63703 C -0.06893 -0.63264 -0.07257 -0.62824 -0.07639 -0.62407 C -0.07952 -0.62083 -0.08316 -0.61828 -0.08612 -0.61481 C -0.10191 -0.5956 -0.08403 -0.6125 -0.09584 -0.60185 C -0.09271 -0.61458 -0.08907 -0.6294 -0.08334 -0.64074 C -0.08421 -0.64259 -0.08455 -0.64583 -0.08612 -0.64629 C -0.08768 -0.64676 -0.08889 -0.64375 -0.09028 -0.64259 C -0.09202 -0.6412 -0.0941 -0.64027 -0.09584 -0.63889 C -0.10209 -0.63356 -0.1066 -0.63009 -0.11389 -0.62777 C -0.11337 -0.63588 -0.10921 -0.64514 -0.1125 -0.65185 C -0.11459 -0.65602 -0.11928 -0.64745 -0.12223 -0.64444 C -0.12952 -0.63703 -0.13612 -0.62847 -0.14306 -0.62037 C -0.15782 -0.60324 -0.17431 -0.58426 -0.19306 -0.57592 C -0.19375 -0.57847 -0.19497 -0.58078 -0.19445 -0.58333 C -0.19393 -0.58588 -0.1915 -0.5868 -0.19028 -0.58889 C -0.18594 -0.59652 -0.18264 -0.60671 -0.17917 -0.61481 C -0.17796 -0.61782 -0.17743 -0.62106 -0.17657 -0.62407 C -0.17553 -0.62662 -0.17466 -0.62916 -0.17362 -0.63148 C -0.17275 -0.63333 -0.16945 -0.63842 -0.17084 -0.63703 C -0.18334 -0.62361 -0.19046 -0.60069 -0.20139 -0.58518 C -0.20452 -0.58078 -0.20903 -0.57801 -0.2125 -0.57407 C -0.21598 -0.57014 -0.21875 -0.56504 -0.2224 -0.56111 C -0.22726 -0.55532 -0.24931 -0.53217 -0.25434 -0.52963 C -0.25886 -0.52708 -0.26806 -0.52222 -0.26806 -0.52222 C -0.27223 -0.53611 -0.26997 -0.53518 -0.26389 -0.54815 C -0.25764 -0.56157 -0.25191 -0.57477 -0.24445 -0.58703 C -0.2507 -0.5375 -0.27396 -0.51504 -0.29584 -0.47963 C -0.32362 -0.43449 -0.3474 -0.38264 -0.37084 -0.33333 C -0.37796 -0.31828 -0.38299 -0.30185 -0.39046 -0.28703 C -0.39844 -0.27083 -0.40903 -0.25787 -0.41667 -0.24074 C -0.40174 -0.31412 -0.37691 -0.38148 -0.35 -0.44815 C -0.34184 -0.46828 -0.33351 -0.48842 -0.32639 -0.50926 C -0.32362 -0.51736 -0.32101 -0.52546 -0.31806 -0.53333 C -0.31632 -0.53773 -0.31424 -0.5419 -0.31268 -0.54629 C -0.31146 -0.5493 -0.30799 -0.55787 -0.30973 -0.55555 C -0.32362 -0.53703 -0.33646 -0.48703 -0.34584 -0.46481 C -0.37223 -0.40208 -0.4007 -0.34421 -0.43056 -0.28518 C -0.48316 -0.1824 -0.41094 -0.30926 -0.48889 -0.17777 C -0.49671 -0.16458 -0.50191 -0.15578 -0.5125 -0.14629 C -0.50886 -0.22338 -0.48525 -0.2912 -0.45139 -0.3537 C -0.44566 -0.36435 -0.43959 -0.375 -0.43334 -0.38518 C -0.42674 -0.39606 -0.4125 -0.41666 -0.4125 -0.41666 C -0.39046 -0.38703 -0.42049 -0.32222 -0.42917 -0.29259 C -0.4599 -0.18773 -0.48941 -0.08565 -0.53195 0.01297 C -0.54809 0.0507 -0.56216 0.09005 -0.58056 0.12593 C -0.58664 0.13773 -0.59306 0.14908 -0.59862 0.16111 C -0.60105 0.16621 -0.60747 0.18195 -0.60417 0.17778 C -0.56441 0.12755 -0.5724 0.11736 -0.53473 0.05926 C -0.52223 0.03982 -0.4099 -0.12615 -0.37223 -0.16481 C -0.31129 -0.22731 -0.2566 -0.27199 -0.19445 -0.32407 C -0.17778 -0.33796 -0.15903 -0.34745 -0.14028 -0.35555 C -0.13004 -0.35995 -0.10834 -0.36111 -0.10834 -0.36111 C -0.08421 -0.35046 -0.09341 -0.31666 -0.10139 -0.28333 C -0.1099 -0.24838 -0.13837 -0.17916 -0.15278 -0.13889 C -0.17466 -0.07754 -0.19428 -0.0125 -0.21945 0.0463 C -0.23056 0.07223 -0.24514 0.09514 -0.25695 0.12037 C -0.25903 0.125 -0.26181 0.12894 -0.26389 0.13334 C -0.26493 0.13565 -0.26841 0.14213 -0.26667 0.14074 C -0.24723 0.12477 -0.23316 0.09977 -0.21389 0.08334 C -0.18525 0.0588 -0.15851 0.04514 -0.125 0.0426 C -0.10903 0.04422 -0.09098 0.0456 -0.07639 0.05556 C -0.06771 0.06158 -0.05834 0.06667 -0.05139 0.07593 C -0.04723 0.08148 -0.03889 0.0926 -0.03889 0.0926 C -0.03785 0.09653 -0.0349 0.09954 -0.0349 0.10371 C -0.0349 0.11181 -0.03525 0.12014 -0.0375 0.12778 C -0.03907 0.1331 -0.04306 0.13635 -0.04584 0.14074 C -0.06007 0.16412 -0.07587 0.1831 -0.09723 0.19445 C -0.09671 0.19005 -0.09723 0.18542 -0.09584 0.18148 C -0.09115 0.16852 -0.07865 0.14584 -0.06945 0.13704 C -0.06112 0.12917 -0.05157 0.12385 -0.04306 0.11667 C -0.03698 0.11158 -0.02917 0.11227 -0.02223 0.10926 C -0.01216 0.10486 0.00069 0.10185 0.00972 0.09445 C 0.01371 0.09121 0.01718 0.08704 0.02083 0.08334 C 0.02222 0.08195 0.0243 0.07986 0.02361 0.07778 C 0.02291 0.07593 0.02083 0.07894 0.01944 0.07963 C 0.01163 0.09005 0.00555 0.09723 -0.00417 0.10371 C -0.01129 0.10047 -0.00643 0.1044 -0.00973 0.0963 C -0.01129 0.09236 -0.01528 0.08519 -0.01528 0.08519 C -0.01684 0.07292 -0.01667 0.07778 -0.01667 0.07037 C -0.02188 0.08426 -0.0349 0.08704 -0.03889 0.07037 C -0.03698 0.06297 -0.0349 0.05996 -0.02917 0.05741 C -0.02622 0.06343 -0.0224 0.06621 -0.01945 0.07223 C -0.01997 0.07477 -0.02084 0.07963 -0.02084 0.07963 L -0.03334 0.07778 C -0.02518 0.0581 -0.02987 0.05857 -0.01112 0.05926 C 0.00191 0.05973 0.02777 0.06297 0.02777 0.06297 L -0.03056 0.07037 L -0.72084 0.23704 C -0.71928 0.09236 -0.77952 -0.09398 -0.70278 -0.19629 C -0.70226 -0.19815 -0.70209 -0.20023 -0.70139 -0.20185 C -0.70018 -0.20463 -0.6974 -0.20926 -0.6974 -0.20926 C -0.50365 -0.23032 -0.31042 -0.25648 -0.11667 -0.27222 C -0.11042 -0.27268 -0.10625 -0.26273 -0.10139 -0.2574 C -0.08716 -0.24166 -0.07917 -0.21736 -0.06528 -0.20185 C -0.06042 -0.19652 -0.05504 -0.19213 -0.05 -0.18703 C -0.04462 -0.18171 -0.03334 -0.17222 -0.03334 -0.17222 C -0.14028 -0.01111 -0.2441 0.15371 -0.35417 0.31111 C -0.36372 0.32477 -0.38195 0.31621 -0.39584 0.31852 C -0.39948 0.31922 -0.40695 0.32037 -0.40695 0.32037 C -0.41389 0.31968 -0.42101 0.32014 -0.42778 0.31852 C -0.43473 0.3169 -0.44393 0.30741 -0.44862 0.30185 C -0.4698 0.27639 -0.48299 0.24861 -0.49445 0.21297 C -0.50191 0.19005 -0.50921 0.16736 -0.51667 0.14445 C -0.52032 0.13287 -0.52639 0.10926 -0.52639 0.10926 C -0.53612 -0.01921 -0.55782 -0.14699 -0.55556 -0.27592 C -0.55539 -0.28495 -0.48768 -0.29977 -0.47778 -0.3 C -0.43195 -0.30046 -0.38612 -0.3 -0.34028 -0.3 C -0.14688 -0.13078 -0.03386 -0.17893 -0.08334 0.05185 C -0.08559 0.07385 -0.08716 0.09977 -0.09445 0.12037 C -0.09618 0.12523 -0.09931 0.12871 -0.10139 0.13334 C -0.10452 0.13982 -0.10417 0.14815 -0.11112 0.14815 C -0.13698 0.14514 -0.16303 0.14167 -0.18889 0.13889 C -0.22414 0.13496 -0.22952 0.13773 -0.25556 0.11852 C -0.26441 0.10093 -0.27396 0.0831 -0.28195 0.06482 C -0.28559 0.05648 -0.29167 0.03889 -0.29167 0.03889 L -0.1375 -0.22407 C -0.07188 -0.18819 -0.05678 -0.19884 -0.025 -0.14259 C -0.02275 -0.13032 -0.01997 -0.11805 -0.01806 -0.10555 C -0.01997 -0.08889 -0.02205 -0.07268 -0.02778 -0.0574 C -0.02969 -0.05208 -0.03195 -0.04699 -0.0349 -0.04259 C -0.03629 -0.04027 -0.04028 -0.03703 -0.04028 -0.03703 C -0.00487 0.20301 -0.06025 0.22848 0.03611 0.1963 C 0.04531 0.18403 0.05434 0.17523 0.06527 0.16667 C 0.06718 0.16505 0.06909 0.1632 0.07083 0.16111 C 0.07239 0.15949 0.075 0.15556 0.075 0.15556 L 0.03888 0.14815 C 0.01666 0.12662 -0.00695 0.10741 -0.02778 0.08334 C -0.02952 0.08125 -0.02518 0.07824 -0.02362 0.07593 C -0.01719 0.06644 -0.01233 0.06181 -0.00417 0.05556 C -0.00087 0.05301 0.00555 0.04815 0.00555 0.04815 L 0.03194 0.00556 L 0.02916 -0.0074 E">
                                      <p:cBhvr>
                                        <p:cTn id="43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951 0.0132 0.00069 -0.00254 0.01805 0.01297 C 0.02013 0.01482 0.02274 0.01505 0.025 0.01667 C 0.03263 0.02223 0.03715 0.0294 0.04288 0.03704 C 0.04826 0.04398 0.05416 0.04908 0.05833 0.05741 C 0.06041 0.06875 0.07083 0.09769 0.05694 0.10185 C 0.05243 0.10324 0.04774 0.10301 0.04288 0.10371 C 0.01875 0.10093 -0.00678 0.09861 -0.03056 0.09074 C -0.03195 0.08959 -0.03351 0.08866 -0.0349 0.08704 C -0.04254 0.07662 -0.02778 0.07662 -0.02362 0.07593 C -0.00625 0.07986 0.0125 0.0963 0.025 0.11297 C 0.03576 0.12732 0.02795 0.12153 0.04027 0.13519 C 0.04739 0.14306 0.05277 0.14746 0.05833 0.15741 C 0.05781 0.16181 0.05816 0.16621 0.05694 0.17037 C 0.05572 0.17454 0.05138 0.18148 0.05138 0.18148 C 0.03854 0.1794 0.04201 0.18125 0.03055 0.17408 C 0.025 0.1706 0.01388 0.16297 0.01388 0.16297 C 0.00572 0.14954 -0.00469 0.14005 -0.01389 0.12778 C -0.02205 0.09514 0.0184 0.08704 0.03333 0.08519 C 0.04826 0.08727 0.06319 0.08866 0.07777 0.0926 C 0.08281 0.10278 0.07534 0.10093 0.06944 0.11111 C 0.06684 0.11574 0.06545 0.12176 0.0625 0.12593 C 0.05364 0.13866 0.03454 0.14375 0.025 0.14815 C 0.02083 0.15 0.0125 0.15371 0.0125 0.15371 C 0.00277 0.15278 -0.00782 0.15533 -0.01667 0.15 C -0.02223 0.14676 -0.0257 0.1382 -0.03056 0.13334 C -0.03594 0.11204 -0.03421 0.12246 -0.03612 0.10185 C -0.03403 0.07431 -0.03577 0.07894 -0.01389 0.07223 C -0.000529999999999999 0.05949 0.01302 0.05116 0.02916 0.04815 C 0.00034 0.0963 -0.08021 0.09792 -0.12084 0.10556 C -0.19115 0.1044 -0.26181 0.11019 -0.33195 0.10185 C -0.34098 0.1007 -0.31632 0.08935 -0.30834 0.08334 C -0.28247 0.06343 -0.25747 0.04121 -0.23056 0.02408 C -0.14601 -0.02963 -0.06216 -0.0787 0.03194 -0.08333 C 0.03663 -0.08148 0.05 -0.08102 0.04583 -0.07777 C 0.0177 -0.05578 -0.02657 -0.05324 -0.05695 -0.04815 C -0.15834 -0.05995 -0.25504 -0.04236 -0.35556 -0.02407 C -0.36893 -0.01852 -0.3823 -0.01227 -0.39584 -0.0074 C -0.40313 -0.00486 -0.41129 0.00255 -0.41806 -0.00185 C -0.42414 -0.00578 -0.40521 -0.0074 -0.39862 -0.00926 C -0.38438 -0.01296 -0.36997 -0.0162 -0.35556 -0.01852 C -0.32743 -0.02291 -0.29914 -0.02662 -0.27084 -0.02963 C -0.16823 -0.04051 -0.15903 -0.03912 -0.05695 -0.04259 C -0.03195 -0.05254 -0.00799 -0.06944 0.01805 -0.07222 C 0.07152 -0.07777 0.12482 -0.05926 0.17638 -0.04444 C 0.19097 -0.025 0.19444 -0.025 0.14027 -0.01111 C 0.09444 0.000699999999999999 0.04861 0.01273 0.00277 0.02408 C -0.14341 0.06065 -0.0658 0.04514 -0.24306 0.05556 C -0.34549 0.06158 -0.44757 0.07385 -0.55 0.07963 C -0.55365 0.08033 -0.56459 0.0831 -0.56112 0.08148 C -0.50261 0.05556 -0.44202 0.04769 -0.38195 0.02963 C -0.15903 -0.03727 -0.27934 0.00348 -0.15834 -0.05926 C -0.09809 -0.09051 -0.13733 -0.06504 -0.1125 -0.08148 C -0.17778 -0.10625 -0.11303 -0.08287 -0.29445 -0.08889 C -0.36441 -0.0912 -0.43421 -0.09537 -0.50417 -0.09815 C -0.53334 -0.0993 -0.5625 -0.10046 -0.59167 -0.10185 C -0.625 -0.10347 -0.69167 -0.1074 -0.69167 -0.1074 C -0.61875 -0.16921 -0.51702 -0.18102 -0.4375 -0.20185 C -0.37414 -0.21852 -0.30573 -0.22569 -0.24028 -0.23333 C -0.23247 -0.23264 -0.22414 -0.23472 -0.21667 -0.23148 C -0.21407 -0.23032 -0.22118 -0.22731 -0.22362 -0.22592 C -0.23282 -0.2206 -0.24167 -0.21389 -0.25139 -0.21111 C -0.27431 -0.20463 -0.29757 -0.20208 -0.32084 -0.19815 C -0.45365 -0.17523 -0.4007 -0.18217 -0.54445 -0.17777 C -0.6533 -0.17893 -0.76198 -0.1794 -0.87084 -0.18148 C -0.91563 -0.1824 -0.90556 -0.17847 -0.925 -0.18703 C -0.90365 -0.20602 -0.82275 -0.21412 -0.81667 -0.21481 C -0.75296 -0.22338 -0.62952 -0.23078 -0.56806 -0.23518 C -0.37934 -0.23333 -0.24098 -0.25092 -0.07084 -0.20555 C -0.12379 -0.17014 -0.17726 -0.16203 -0.23473 -0.14444 C -0.27483 -0.13217 -0.31389 -0.11435 -0.35417 -0.1037 C -0.55903 -0.04953 -0.7698 -0.04652 -0.97778 -0.04259 C -0.83941 -0.06574 -0.70035 -0.06458 -0.56112 -0.07037 C -0.43282 -0.06643 -0.31233 -0.0662 -0.18612 -0.05 C -0.17448 -0.0449 -0.20209 -0.03958 -0.21667 -0.03518 C -0.23785 -0.02893 -0.25903 -0.02268 -0.28056 -0.01852 C -0.35122 -0.00486 -0.4224 0.00625 -0.49306 0.01852 C -0.59514 0.03635 -0.7 0.03611 -0.80278 0.04074 C -0.81667 0.03889 -0.8323 0.04422 -0.84445 0.03519 C -0.84966 0.03148 -0.83559 0.02454 -0.83056 0.02037 C -0.81789 0.00973 -0.80539 -0.00115 -0.79167 -0.00926 C -0.75625 -0.03032 -0.65955 -0.075 -0.625 -0.08703 C -0.58785 -0.1 -0.54983 -0.10694 -0.5125 -0.11852 C -0.37917 -0.15949 -0.44046 -0.15139 -0.30834 -0.17407 C -0.28073 -0.17893 -0.25278 -0.18102 -0.225 -0.18518 C -0.20782 -0.18773 -0.1908 -0.19166 -0.17362 -0.19444 C -0.16806 -0.19537 -0.15139 -0.19629 -0.15695 -0.19629 C -0.17726 -0.19629 -0.19775 -0.19514 -0.21806 -0.19444 C -0.28837 -0.18657 -0.35782 -0.17639 -0.42778 -0.16481 C -0.44132 -0.1625 -0.46806 -0.15555 -0.46806 -0.15555 C -0.44844 -0.18171 -0.4224 -0.18402 -0.39723 -0.19815 C -0.37969 -0.20787 -0.36389 -0.22315 -0.34584 -0.23148 C -0.2323 -0.28356 -0.24237 -0.27801 -0.15695 -0.29259 C -0.13612 -0.2919 -0.11511 -0.29328 -0.09445 -0.29074 C -0.09254 -0.29051 -0.09705 -0.28657 -0.09879 -0.28518 C -0.11268 -0.27291 -0.12743 -0.2618 -0.14167 -0.25 C -0.16059 -0.23449 -0.18021 -0.22083 -0.2 -0.2074 C -0.30296 -0.13796 -0.24757 -0.17893 -0.36389 -0.11852 C -0.39497 -0.10254 -0.42448 -0.08217 -0.45556 -0.06666 C -0.48143 -0.0537 -0.50816 -0.04352 -0.53473 -0.03333 C -0.55452 -0.02569 -0.57483 -0.02106 -0.59445 -0.01296 C -0.679 0.02223 -0.61615 0.0007 -0.61389 0 C -0.58907 -0.02893 -0.61789 0.00209 -0.56806 -0.03333 C -0.52969 -0.06065 -0.49219 -0.09004 -0.45417 -0.11852 C -0.35035 -0.19606 -0.2316 -0.26412 -0.11528 -0.3 C -0.09618 -0.30578 -0.07639 -0.30555 -0.05695 -0.30926 C -0.01077 -0.37083 0.06007 -0.40764 0.12222 -0.43518 C 0.10173 -0.40393 0.08819 -0.37777 0.06111 -0.35 C 0.04722 -0.33588 0.03298 -0.32222 0.01944 -0.3074 C -0.03247 -0.25069 -0.00139 -0.275 -0.06112 -0.22222 C -0.08577 -0.20046 -0.11268 -0.18333 -0.13612 -0.15926 C -0.17466 -0.11967 -0.15868 -0.13125 -0.18056 -0.11666 C -0.16337 -0.15486 -0.11441 -0.20717 -0.0875 -0.23333 C -0.05209 -0.26782 -0.01546 -0.30023 0.02083 -0.33333 C 0.05694 -0.3662 0.09079 -0.39861 0.13333 -0.41481 C 0.10729 -0.36273 0.05434 -0.33634 0.01527 -0.3074 C -0.00487 -0.29259 -0.02344 -0.27384 -0.04445 -0.26111 C -0.14184 -0.20139 -0.24705 -0.1794 -0.35278 -0.16852 C -0.41737 -0.17523 -0.47431 -0.18171 -0.53473 -0.21296 C -0.56268 -0.24236 -0.57657 -0.25254 -0.57917 -0.30185 C -0.57518 -0.42176 -0.52292 -0.53796 -0.45695 -0.61852 C -0.44428 -0.63402 -0.40695 -0.68148 -0.38473 -0.68889 C -0.41702 -0.6243 -0.4665 -0.57569 -0.51806 -0.54074 C -0.5573 -0.51412 -0.5948 -0.47963 -0.6375 -0.46481 C -0.70382 -0.4419 -0.76493 -0.42315 -0.83334 -0.41852 C -0.86528 -0.42129 -0.88855 -0.4199 -0.91389 -0.44629 C -0.91945 -0.49768 -0.88525 -0.54074 -0.86528 -0.57777 C -0.84809 -0.60949 -0.79115 -0.66481 -0.75573 -0.68148 C -0.7257 -0.69537 -0.69514 -0.69629 -0.66389 -0.7 C -0.48559 -0.6949 -0.31737 -0.61527 -0.15278 -0.52963 C -0.10625 -0.50532 -0.05782 -0.48102 -0.01667 -0.44259 C -0.00782 -0.425 -0.054 -0.41551 -0.06389 -0.41296 C -0.11528 -0.4 -0.16719 -0.39722 -0.21945 -0.39444 C -0.33612 -0.41065 -0.46459 -0.42801 -0.575 -0.47963 C -0.62639 -0.5037 -0.67657 -0.5331 -0.72917 -0.55185 C -0.7599 -0.56296 -0.8033 -0.56921 -0.82778 -0.60185 C -0.82553 -0.6118 -0.82431 -0.62384 -0.81806 -0.63148 C -0.79636 -0.6581 -0.75747 -0.6581 -0.73056 -0.66111 C -0.6257 -0.65902 -0.52639 -0.64815 -0.42362 -0.61852 C -0.37483 -0.6044 -0.32136 -0.5875 -0.27917 -0.55 C -0.27553 -0.54259 -0.27639 -0.53657 -0.28334 -0.53148 C -0.29549 -0.52268 -0.30834 -0.51551 -0.32084 -0.5074 C -0.38976 -0.46319 -0.46875 -0.44213 -0.54445 -0.43703 C -0.55417 -0.43889 -0.56389 -0.44051 -0.57362 -0.44259 C -0.57587 -0.44305 -0.57882 -0.44236 -0.58056 -0.44444 C -0.58195 -0.44606 -0.58143 -0.4493 -0.58195 -0.45185 C -0.5757 -0.50486 -0.57796 -0.49213 -0.54723 -0.52407 C -0.53907 -0.53264 -0.53334 -0.54629 -0.52362 -0.55185 C -0.45469 -0.59097 -0.41719 -0.59791 -0.35 -0.61666 C -0.26355 -0.61527 -0.12848 -0.63981 -0.0625 -0.53703 C -0.06059 -0.52245 -0.06598 -0.51921 -0.075 -0.50926 C -0.09566 -0.4868 -0.11563 -0.4699 -0.14028 -0.45555 C -0.24775 -0.39282 -0.35799 -0.37384 -0.47362 -0.36852 C -0.60087 -0.38171 -0.76459 -0.38264 -0.86667 -0.5074 C -0.88716 -0.58055 -0.81684 -0.61759 -0.77518 -0.63148 C -0.76407 -0.63518 -0.75278 -0.6368 -0.74167 -0.63889 C -0.72969 -0.6412 -0.71771 -0.64328 -0.70556 -0.64444 C -0.68803 -0.64629 -0.67032 -0.64699 -0.65278 -0.64815 C -0.60556 -0.64699 -0.57032 -0.65208 -0.52778 -0.63148 C -0.52188 -0.6074 -0.52275 -0.6169 -0.56112 -0.58518 C -0.60365 -0.55 -0.64636 -0.51481 -0.68889 -0.47963 C -0.71771 -0.45578 -0.74914 -0.43773 -0.78056 -0.42037 C -0.84931 -0.38264 -0.98889 -0.31481 -0.98889 -0.31481 C -0.9908 -0.30069 -0.98959 -0.25926 -0.99445 -0.27222 C -0.99966 -0.28611 -0.99271 -0.30324 -0.99028 -0.31852 C -0.98021 -0.38032 -0.90139 -0.42453 -0.87223 -0.44629 C -0.84549 -0.4662 -0.79688 -0.50092 -0.76806 -0.51111 C -0.70313 -0.53426 -0.63056 -0.5331 -0.56389 -0.53703 C -0.50469 -0.53449 -0.44497 -0.53703 -0.38612 -0.52777 C -0.36198 -0.52407 -0.33803 -0.51643 -0.31389 -0.51296 C -0.30973 -0.51227 -0.30556 -0.5118 -0.30139 -0.51111 C -0.30573 -0.4875 -0.32379 -0.47639 -0.33612 -0.46111 C -0.34862 -0.4456 -0.35938 -0.42777 -0.37223 -0.41296 C -0.45799 -0.31342 -0.54636 -0.2169 -0.65973 -0.18333 C -0.675 -0.18842 -0.66025 -0.20162 -0.65417 -0.20926 C -0.61303 -0.25995 -0.57691 -0.30995 -0.52362 -0.33889 C -0.4066 -0.40254 -0.30539 -0.42662 -0.17917 -0.43333 C -0.10625 -0.43148 -0.00816 -0.43078 0.05555 -0.37407 C 0.05 -0.35555 0.04253 -0.35764 0.02638 -0.34815 C 0.00816 -0.3375 0.01875 -0.34236 -0.00278 -0.33518 C -0.02657 -0.33842 -0.05157 -0.33819 -0.07362 -0.3537 C -0.09323 -0.36759 -0.10973 -0.39768 -0.12084 -0.42222 C -0.125 -0.4581 -0.12292 -0.48842 -0.10139 -0.51481 C -0.09549 -0.52199 -0.0882 -0.52685 -0.08195 -0.53333 C -0.07622 -0.53912 -0.07153 -0.54699 -0.06528 -0.55185 C -0.05695 -0.55833 -0.03889 -0.56666 -0.03889 -0.56666 C -0.02761 -0.56296 -0.03212 -0.5669 -0.04445 -0.54629 C -0.06684 -0.50926 -0.10087 -0.49537 -0.12917 -0.47037 C -0.14393 -0.45717 -0.15573 -0.43842 -0.17084 -0.42592 C -0.19202 -0.4081 -0.25712 -0.37268 -0.27917 -0.36111 C -0.32657 -0.33657 -0.37535 -0.31597 -0.42639 -0.31111 C -0.43004 -0.31227 -0.43421 -0.31227 -0.4375 -0.31481 C -0.4448 -0.32014 -0.43091 -0.35277 -0.43056 -0.3537 C -0.42084 -0.37569 -0.40452 -0.4 -0.39167 -0.41666 C -0.329 -0.49838 -0.24653 -0.56643 -0.15834 -0.58333 C -0.14011 -0.5794 -0.15695 -0.56435 -0.16528 -0.5574 C -0.18473 -0.5412 -0.20521 -0.52662 -0.225 -0.51111 C -0.24202 -0.49791 -0.26285 -0.49676 -0.28195 -0.49074 C -0.33733 -0.47291 -0.32813 -0.47777 -0.39046 -0.47407 C -0.45191 -0.47801 -0.49671 -0.49213 -0.55556 -0.51481 C -0.57414 -0.53055 -0.59289 -0.54027 -0.60278 -0.56852 C -0.60573 -0.57708 -0.60469 -0.58703 -0.60556 -0.59629 C -0.60157 -0.64375 -0.5875 -0.6824 -0.5625 -0.71852 C -0.54636 -0.7419 -0.52726 -0.7618 -0.50973 -0.78333 C -0.50365 -0.79074 -0.49462 -0.79259 -0.4875 -0.79815 C -0.4849 -0.8 -0.47813 -0.80764 -0.48056 -0.80555 C -0.51771 -0.77407 -0.56007 -0.75717 -0.59723 -0.72592 C -0.62639 -0.70139 -0.64862 -0.68009 -0.68195 -0.66481 C -0.70504 -0.6544 -0.72934 -0.64953 -0.75278 -0.64074 C -0.82292 -0.61412 -0.89375 -0.5787 -0.96528 -0.5574 C -0.95712 -0.57361 -0.93369 -0.59328 -0.92223 -0.6 C -0.87153 -0.62963 -0.79358 -0.6699 -0.73629 -0.68518 C -0.70278 -0.69398 -0.66841 -0.69514 -0.63473 -0.70185 C -0.48577 -0.69861 -0.34063 -0.69259 -0.19584 -0.64259 C -0.1382 -0.62268 -0.0691 -0.60092 -0.02362 -0.54629 C -0.0099 -0.50995 -0.04879 -0.4787 -0.06684 -0.46296 C -0.15296 -0.38703 -0.24983 -0.35879 -0.35157 -0.34444 C -0.44671 -0.35277 -0.48073 -0.33889 -0.55278 -0.4 C -0.56355 -0.43217 -0.55296 -0.45416 -0.53195 -0.47222 C -0.49063 -0.50787 -0.44497 -0.53379 -0.39584 -0.54259 C -0.37049 -0.54722 -0.34497 -0.54629 -0.31945 -0.54815 C -0.26893 -0.54629 -0.21806 -0.55208 -0.16806 -0.54259 C -0.01146 -0.51319 0.13142 -0.41041 0.28888 -0.38703 C 0.29097 -0.38773 0.29479 -0.38611 0.29583 -0.38889 C 0.2967 -0.3912 0.29218 -0.39074 0.29027 -0.39074 C 0.23281 -0.39305 0.17552 -0.39444 0.11805 -0.39629 C 0.09149 -0.40648 0.07447 -0.40208 0.06527 -0.43889 C 0.06336 -0.45648 0.06371 -0.47361 0.06805 -0.49074 C 0.06857 -0.48819 0.06753 -0.48402 0.06944 -0.48333 C 0.07135 -0.48264 0.07222 -0.48703 0.07361 -0.48889 C 0.08055 -0.49699 0.08732 -0.50509 0.09444 -0.51296 C 0.10052 -0.5199 0.11493 -0.53518 0.12222 -0.54074 C 0.1335 -0.5493 0.14531 -0.55671 0.15694 -0.56481 C 0.16319 -0.56921 0.17083 -0.56805 0.17777 -0.57037 C 0.19149 -0.57477 0.20468 -0.58102 0.21805 -0.58703 C 0.21961 -0.58773 0.21527 -0.58449 0.21388 -0.58333 C 0.20659 -0.57754 0.19913 -0.57222 0.19166 -0.56666 C 0.17725 -0.55578 0.16163 -0.55532 0.14583 -0.55185 C 0.1375 -0.55463 0.13663 -0.55578 0.13333 -0.56666 C 0.13507 -0.58703 0.13281 -0.59629 0.14027 -0.61111 C 0.14322 -0.6169 0.15364 -0.63264 0.15 -0.62777 C 0.11666 -0.58333 0.07638 -0.5544 0.0375 -0.52037 C 0.02916 -0.51319 0.02239 -0.50277 0.01388 -0.49629 C -0.02101 -0.47083 -0.06181 -0.46319 -0.1 -0.45185 C -0.10834 -0.45301 -0.11702 -0.45185 -0.125 -0.45555 C -0.13143 -0.45856 -0.12275 -0.47477 -0.11806 -0.48148 C -0.11094 -0.49166 -0.10365 -0.50185 -0.09584 -0.51111 C -0.06997 -0.5412 -0.03073 -0.58125 -0.00139 -0.6037 C 0.10295 -0.68356 0.19548 -0.70023 0.3125 -0.7074 C 0.3467 -0.70555 0.38107 -0.70509 0.41527 -0.70185 C 0.44791 -0.69861 0.39791 -0.68032 0.39583 -0.67963 C 0.26632 -0.64236 0.3552 -0.66713 0.24444 -0.65185 C 0.10486 -0.63264 -0.0316 -0.61065 -0.17223 -0.60555 C -0.19601 -0.60694 -0.23212 -0.60324 -0.25834 -0.61481 C -0.26632 -0.64676 -0.20886 -0.67384 -0.19584 -0.67963 C -0.11094 -0.71782 -0.07587 -0.72801 0.01388 -0.73333 C 0.11545 -0.72963 0.20329 -0.72685 0.30138 -0.69815 C 0.33541 -0.68819 0.38524 -0.67777 0.41666 -0.65 C 0.4052 -0.64236 0.37899 -0.63981 0.36805 -0.63889 C 0.33107 -0.63588 0.25694 -0.63333 0.25694 -0.63333 C 0.03854 -0.64051 -0.17796 -0.64791 -0.39445 -0.69074 C -0.40261 -0.69467 -0.41702 -0.69398 -0.41806 -0.70555 C -0.41875 -0.71389 -0.40834 -0.72338 -0.40556 -0.72592 C -0.3849 -0.74375 -0.37275 -0.74537 -0.34584 -0.75347 C -0.24688 -0.78426 -0.14532 -0.78148 -0.04445 -0.78518 C 0.11423 -0.77453 0.26927 -0.75393 0.42638 -0.72222 C 0.42586 -0.69143 0.42986 -0.65972 0.425 -0.62963 C 0.42395 -0.62361 0.41579 -0.62824 0.41111 -0.62777 C 0.3967 -0.62592 0.38246 -0.62199 0.36805 -0.62037 C 0.31354 -0.61458 0.25885 -0.61759 0.20416 -0.61666 C 0.08333 -0.62291 -0.03455 -0.63634 -0.15417 -0.6574 C -0.19202 -0.66412 -0.24948 -0.68148 -0.28056 -0.71458 C -0.28282 -0.72662 -0.27396 -0.73333 -0.26528 -0.73518 C -0.22257 -0.74444 -0.20122 -0.7449 -0.15973 -0.74815 C -0.03351 -0.74652 0.08576 -0.73958 0.20972 -0.70926 C 0.27847 -0.69236 0.35503 -0.67477 0.41666 -0.62777 C 0.39982 -0.62037 0.34062 -0.63958 0.325 -0.64259 C 0.31215 -0.6449 0.29895 -0.64583 0.28611 -0.64815 C 0.25312 -0.65393 0.22031 -0.66041 0.1875 -0.66666 C 0.15451 -0.67291 0.12204 -0.68379 0.08871 -0.68889 C 0.07691 -0.69074 0.06475 -0.69259 0.05277 -0.69444 C 0.04722 -0.69629 0.04166 -0.69791 0.03611 -0.7 C 0.03333 -0.70115 0.02951 -0.70069 0.02777 -0.7037 C 0.02673 -0.70555 0.03038 -0.70648 0.03194 -0.7074 C 0.03454 -0.70902 0.0375 -0.71018 0.04027 -0.71111 C 0.04444 -0.7125 0.04861 -0.71342 0.05277 -0.71458 C 0.05833 -0.71666 0.06388 -0.71828 0.06944 -0.72037 C 0.0901 -0.72754 0.11076 -0.73356 0.13194 -0.73703 C 0.14409 -0.74236 0.12534 -0.73634 0.12222 -0.73518 C 0.11718 -0.72639 0.11649 -0.71666 0.1125 -0.7074 C 0.11163 -0.70555 0.11145 -0.70185 0.10972 -0.70185 C 0.10833 -0.70185 0.11041 -0.70578 0.11111 -0.7074 C 0.11302 -0.71203 0.11579 -0.71597 0.11805 -0.72037 C 0.11753 -0.71412 0.1177 -0.70787 0.11666 -0.70185 C 0.11632 -0.69977 0.11441 -0.69838 0.11388 -0.69629 C 0.11302 -0.69282 0.11302 -0.68889 0.1125 -0.68518 C 0.11302 -0.68333 0.1125 -0.6787 0.11388 -0.67963 C 0.11632 -0.68125 0.11649 -0.68588 0.11805 -0.68889 C 0.11927 -0.69143 0.12378 -0.69838 0.12222 -0.69629 C 0.12031 -0.69375 0.11857 -0.6912 0.11666 -0.68889 C 0.11545 -0.6875 0.11371 -0.68657 0.1125 -0.68518 C 0.11059 -0.68287 0.10885 -0.68032 0.10694 -0.67777 C 0.10555 -0.67847 0.10416 -0.68032 0.10277 -0.67963 C 0.10017 -0.67824 0.09913 -0.67453 0.09722 -0.67222 C 0.09201 -0.66643 0.08611 -0.66227 0.08055 -0.6574 C 0.07916 -0.66527 0.07812 -0.66551 0.08055 -0.67407 C 0.08107 -0.67615 0.08402 -0.67754 0.08333 -0.67963 C 0.08263 -0.68148 0.08055 -0.67847 0.07916 -0.67777 C 0.07725 -0.67592 0.07517 -0.6743 0.07361 -0.67222 C 0.07239 -0.6706 0.07204 -0.66805 0.07083 -0.66666 C 0.06614 -0.66134 0.05972 -0.65555 0.05416 -0.65185 C 0.05468 -0.6544 0.05486 -0.65694 0.05555 -0.65926 C 0.05625 -0.66134 0.06007 -0.66481 0.05833 -0.66481 C 0.05642 -0.66481 0.05572 -0.66088 0.05416 -0.65926 C 0.05243 -0.65717 0.05034 -0.65578 0.04861 -0.6537 C 0.04079 -0.64467 0.03229 -0.63727 0.02361 -0.62963 C 0.01527 -0.63703 0.01892 -0.64444 0.02361 -0.6537 C 0.02413 -0.65671 0.02447 -0.65995 0.025 -0.66296 C 0.02534 -0.66481 0.02777 -0.66782 0.02638 -0.66852 C 0.025 -0.66921 0.01805 -0.66203 0.01666 -0.66111 C 0.00451 -0.65254 -0.01007 -0.64143 -0.02362 -0.63703 C -0.0257 -0.65069 -0.02153 -0.65625 -0.01806 -0.67037 C -0.01771 -0.67245 -0.01407 -0.6743 -0.01528 -0.67592 C -0.01667 -0.67777 -0.01893 -0.67477 -0.02084 -0.67407 C -0.02553 -0.66481 -0.02223 -0.66967 -0.03195 -0.66111 C -0.05139 -0.64375 -0.03299 -0.65046 -0.04862 -0.64629 C -0.05417 -0.64143 -0.05573 -0.63796 -0.05139 -0.65555 C -0.05053 -0.65902 -0.04532 -0.66736 -0.04723 -0.66481 C -0.05087 -0.65995 -0.0533 -0.65301 -0.05695 -0.64815 C -0.05973 -0.64444 -0.06233 -0.64051 -0.06528 -0.63703 C -0.06893 -0.63264 -0.07257 -0.62824 -0.07639 -0.62407 C -0.07952 -0.62083 -0.08316 -0.61828 -0.08612 -0.61481 C -0.10191 -0.5956 -0.08403 -0.6125 -0.09584 -0.60185 C -0.09271 -0.61458 -0.08907 -0.6294 -0.08334 -0.64074 C -0.08421 -0.64259 -0.08455 -0.64583 -0.08612 -0.64629 C -0.08768 -0.64676 -0.08889 -0.64375 -0.09028 -0.64259 C -0.09202 -0.6412 -0.0941 -0.64027 -0.09584 -0.63889 C -0.10209 -0.63356 -0.1066 -0.63009 -0.11389 -0.62777 C -0.11337 -0.63588 -0.10921 -0.64514 -0.1125 -0.65185 C -0.11459 -0.65602 -0.11928 -0.64745 -0.12223 -0.64444 C -0.12952 -0.63703 -0.13612 -0.62847 -0.14306 -0.62037 C -0.15782 -0.60324 -0.17431 -0.58426 -0.19306 -0.57592 C -0.19375 -0.57847 -0.19497 -0.58078 -0.19445 -0.58333 C -0.19393 -0.58588 -0.1915 -0.5868 -0.19028 -0.58889 C -0.18594 -0.59652 -0.18264 -0.60671 -0.17917 -0.61481 C -0.17796 -0.61782 -0.17743 -0.62106 -0.17657 -0.62407 C -0.17553 -0.62662 -0.17466 -0.62916 -0.17362 -0.63148 C -0.17275 -0.63333 -0.16945 -0.63842 -0.17084 -0.63703 C -0.18334 -0.62361 -0.19046 -0.60069 -0.20139 -0.58518 C -0.20452 -0.58078 -0.20903 -0.57801 -0.2125 -0.57407 C -0.21598 -0.57014 -0.21875 -0.56504 -0.2224 -0.56111 C -0.22726 -0.55532 -0.24931 -0.53217 -0.25434 -0.52963 C -0.25886 -0.52708 -0.26806 -0.52222 -0.26806 -0.52222 C -0.27223 -0.53611 -0.26997 -0.53518 -0.26389 -0.54815 C -0.25764 -0.56157 -0.25191 -0.57477 -0.24445 -0.58703 C -0.2507 -0.5375 -0.27396 -0.51504 -0.29584 -0.47963 C -0.32362 -0.43449 -0.3474 -0.38264 -0.37084 -0.33333 C -0.37796 -0.31828 -0.38299 -0.30185 -0.39046 -0.28703 C -0.39844 -0.27083 -0.40903 -0.25787 -0.41667 -0.24074 C -0.40174 -0.31412 -0.37691 -0.38148 -0.35 -0.44815 C -0.34184 -0.46828 -0.33351 -0.48842 -0.32639 -0.50926 C -0.32362 -0.51736 -0.32101 -0.52546 -0.31806 -0.53333 C -0.31632 -0.53773 -0.31424 -0.5419 -0.31268 -0.54629 C -0.31146 -0.5493 -0.30799 -0.55787 -0.30973 -0.55555 C -0.32362 -0.53703 -0.33646 -0.48703 -0.34584 -0.46481 C -0.37223 -0.40208 -0.4007 -0.34421 -0.43056 -0.28518 C -0.48316 -0.1824 -0.41094 -0.30926 -0.48889 -0.17777 C -0.49671 -0.16458 -0.50191 -0.15578 -0.5125 -0.14629 C -0.50886 -0.22338 -0.48525 -0.2912 -0.45139 -0.3537 C -0.44566 -0.36435 -0.43959 -0.375 -0.43334 -0.38518 C -0.42674 -0.39606 -0.4125 -0.41666 -0.4125 -0.41666 C -0.39046 -0.38703 -0.42049 -0.32222 -0.42917 -0.29259 C -0.4599 -0.18773 -0.48941 -0.08565 -0.53195 0.01297 C -0.54809 0.0507 -0.56216 0.09005 -0.58056 0.12593 C -0.58664 0.13773 -0.59306 0.14908 -0.59862 0.16111 C -0.60105 0.16621 -0.60747 0.18195 -0.60417 0.17778 C -0.56441 0.12755 -0.5724 0.11736 -0.53473 0.05926 C -0.52223 0.03982 -0.4099 -0.12615 -0.37223 -0.16481 C -0.31129 -0.22731 -0.2566 -0.27199 -0.19445 -0.32407 C -0.17778 -0.33796 -0.15903 -0.34745 -0.14028 -0.35555 C -0.13004 -0.35995 -0.10834 -0.36111 -0.10834 -0.36111 C -0.08421 -0.35046 -0.09341 -0.31666 -0.10139 -0.28333 C -0.1099 -0.24838 -0.13837 -0.17916 -0.15278 -0.13889 C -0.17466 -0.07754 -0.19428 -0.0125 -0.21945 0.0463 C -0.23056 0.07223 -0.24514 0.09514 -0.25695 0.12037 C -0.25903 0.125 -0.26181 0.12894 -0.26389 0.13334 C -0.26493 0.13565 -0.26841 0.14213 -0.26667 0.14074 C -0.24723 0.12477 -0.23316 0.09977 -0.21389 0.08334 C -0.18525 0.0588 -0.15851 0.04514 -0.125 0.0426 C -0.10903 0.04422 -0.09098 0.0456 -0.07639 0.05556 C -0.06771 0.06158 -0.05834 0.06667 -0.05139 0.07593 C -0.04723 0.08148 -0.03889 0.0926 -0.03889 0.0926 C -0.03785 0.09653 -0.0349 0.09954 -0.0349 0.10371 C -0.0349 0.11181 -0.03525 0.12014 -0.0375 0.12778 C -0.03907 0.1331 -0.04306 0.13635 -0.04584 0.14074 C -0.06007 0.16412 -0.07587 0.1831 -0.09723 0.19445 C -0.09671 0.19005 -0.09723 0.18542 -0.09584 0.18148 C -0.09115 0.16852 -0.07865 0.14584 -0.06945 0.13704 C -0.06112 0.12917 -0.05157 0.12385 -0.04306 0.11667 C -0.03698 0.11158 -0.02917 0.11227 -0.02223 0.10926 C -0.01216 0.10486 0.00069 0.10185 0.00972 0.09445 C 0.01371 0.09121 0.01718 0.08704 0.02083 0.08334 C 0.02222 0.08195 0.0243 0.07986 0.02361 0.07778 C 0.02291 0.07593 0.02083 0.07894 0.01944 0.07963 C 0.01163 0.09005 0.00555 0.09723 -0.00417 0.10371 C -0.01129 0.10047 -0.00643 0.1044 -0.00973 0.0963 C -0.01129 0.09236 -0.01528 0.08519 -0.01528 0.08519 C -0.01684 0.07292 -0.01667 0.07778 -0.01667 0.07037 C -0.02188 0.08426 -0.0349 0.08704 -0.03889 0.07037 C -0.03698 0.06297 -0.0349 0.05996 -0.02917 0.05741 C -0.02622 0.06343 -0.0224 0.06621 -0.01945 0.07223 C -0.01997 0.07477 -0.02084 0.07963 -0.02084 0.07963 L -0.03334 0.07778 C -0.02518 0.0581 -0.02987 0.05857 -0.01112 0.05926 C 0.00191 0.05973 0.02777 0.06297 0.02777 0.06297 L -0.03056 0.07037 L -0.72084 0.23704 C -0.71928 0.09236 -0.77952 -0.09398 -0.70278 -0.19629 C -0.70226 -0.19815 -0.70209 -0.20023 -0.70139 -0.20185 C -0.70018 -0.20463 -0.6974 -0.20926 -0.6974 -0.20926 C -0.50365 -0.23032 -0.31042 -0.25648 -0.11667 -0.27222 C -0.11042 -0.27268 -0.10625 -0.26273 -0.10139 -0.2574 C -0.08716 -0.24166 -0.07917 -0.21736 -0.06528 -0.20185 C -0.06042 -0.19652 -0.05504 -0.19213 -0.05 -0.18703 C -0.04462 -0.18171 -0.03334 -0.17222 -0.03334 -0.17222 C -0.14028 -0.01111 -0.2441 0.15371 -0.35417 0.31111 C -0.36372 0.32477 -0.38195 0.31621 -0.39584 0.31852 C -0.39948 0.31922 -0.40695 0.32037 -0.40695 0.32037 C -0.41389 0.31968 -0.42101 0.32014 -0.42778 0.31852 C -0.43473 0.3169 -0.44393 0.30741 -0.44862 0.30185 C -0.4698 0.27639 -0.48299 0.24861 -0.49445 0.21297 C -0.50191 0.19005 -0.50921 0.16736 -0.51667 0.14445 C -0.52032 0.13287 -0.52639 0.10926 -0.52639 0.10926 C -0.53612 -0.01921 -0.55782 -0.14699 -0.55556 -0.27592 C -0.55539 -0.28495 -0.48768 -0.29977 -0.47778 -0.3 C -0.43195 -0.30046 -0.38612 -0.3 -0.34028 -0.3 C -0.14688 -0.13078 -0.03386 -0.17893 -0.08334 0.05185 C -0.08559 0.07385 -0.08716 0.09977 -0.09445 0.12037 C -0.09618 0.12523 -0.09931 0.12871 -0.10139 0.13334 C -0.10452 0.13982 -0.10417 0.14815 -0.11112 0.14815 C -0.13698 0.14514 -0.16303 0.14167 -0.18889 0.13889 C -0.22414 0.13496 -0.22952 0.13773 -0.25556 0.11852 C -0.26441 0.10093 -0.27396 0.0831 -0.28195 0.06482 C -0.28559 0.05648 -0.29167 0.03889 -0.29167 0.03889 L -0.1375 -0.22407 C -0.07188 -0.18819 -0.05678 -0.19884 -0.025 -0.14259 C -0.02275 -0.13032 -0.01997 -0.11805 -0.01806 -0.10555 C -0.01997 -0.08889 -0.02205 -0.07268 -0.02778 -0.0574 C -0.02969 -0.05208 -0.03195 -0.04699 -0.0349 -0.04259 C -0.03629 -0.04027 -0.04028 -0.03703 -0.04028 -0.03703 C -0.00487 0.20301 -0.06025 0.22848 0.03611 0.1963 C 0.04531 0.18403 0.05434 0.17523 0.06527 0.16667 C 0.06718 0.16505 0.06909 0.1632 0.07083 0.16111 C 0.07239 0.15949 0.075 0.15556 0.075 0.15556 L 0.03888 0.14815 C 0.01666 0.12662 -0.00695 0.10741 -0.02778 0.08334 C -0.02952 0.08125 -0.02518 0.07824 -0.02362 0.07593 C -0.01719 0.06644 -0.01233 0.06181 -0.00417 0.05556 C -0.00087 0.05301 0.00555 0.04815 0.00555 0.04815 L 0.03194 0.00556 L 0.02916 -0.0074 E">
                                      <p:cBhvr>
                                        <p:cTn id="45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951 0.0132 0.00069 -0.00254 0.01805 0.01297 C 0.02013 0.01482 0.02274 0.01505 0.025 0.01667 C 0.03263 0.02223 0.03715 0.0294 0.04288 0.03704 C 0.04826 0.04398 0.05416 0.04908 0.05833 0.05741 C 0.06041 0.06875 0.07083 0.09769 0.05694 0.10185 C 0.05243 0.10324 0.04774 0.10301 0.04288 0.10371 C 0.01875 0.10093 -0.00678 0.09861 -0.03056 0.09074 C -0.03195 0.08959 -0.03351 0.08866 -0.0349 0.08704 C -0.04254 0.07662 -0.02778 0.07662 -0.02362 0.07593 C -0.00625 0.07986 0.0125 0.0963 0.025 0.11297 C 0.03576 0.12732 0.02795 0.12153 0.04027 0.13519 C 0.04739 0.14306 0.05277 0.14746 0.05833 0.15741 C 0.05781 0.16181 0.05816 0.16621 0.05694 0.17037 C 0.05572 0.17454 0.05138 0.18148 0.05138 0.18148 C 0.03854 0.1794 0.04201 0.18125 0.03055 0.17408 C 0.025 0.1706 0.01388 0.16297 0.01388 0.16297 C 0.00572 0.14954 -0.00469 0.14005 -0.01389 0.12778 C -0.02205 0.09514 0.0184 0.08704 0.03333 0.08519 C 0.04826 0.08727 0.06319 0.08866 0.07777 0.0926 C 0.08281 0.10278 0.07534 0.10093 0.06944 0.11111 C 0.06684 0.11574 0.06545 0.12176 0.0625 0.12593 C 0.05364 0.13866 0.03454 0.14375 0.025 0.14815 C 0.02083 0.15 0.0125 0.15371 0.0125 0.15371 C 0.00277 0.15278 -0.00782 0.15533 -0.01667 0.15 C -0.02223 0.14676 -0.0257 0.1382 -0.03056 0.13334 C -0.03594 0.11204 -0.03421 0.12246 -0.03612 0.10185 C -0.03403 0.07431 -0.03577 0.07894 -0.01389 0.07223 C -0.000529999999999999 0.05949 0.01302 0.05116 0.02916 0.04815 C 0.00034 0.0963 -0.08021 0.09792 -0.12084 0.10556 C -0.19115 0.1044 -0.26181 0.11019 -0.33195 0.10185 C -0.34098 0.1007 -0.31632 0.08935 -0.30834 0.08334 C -0.28247 0.06343 -0.25747 0.04121 -0.23056 0.02408 C -0.14601 -0.02963 -0.06216 -0.0787 0.03194 -0.08333 C 0.03663 -0.08148 0.05 -0.08102 0.04583 -0.07777 C 0.0177 -0.05578 -0.02657 -0.05324 -0.05695 -0.04815 C -0.15834 -0.05995 -0.25504 -0.04236 -0.35556 -0.02407 C -0.36893 -0.01852 -0.3823 -0.01227 -0.39584 -0.0074 C -0.40313 -0.00486 -0.41129 0.00255 -0.41806 -0.00185 C -0.42414 -0.00578 -0.40521 -0.0074 -0.39862 -0.00926 C -0.38438 -0.01296 -0.36997 -0.0162 -0.35556 -0.01852 C -0.32743 -0.02291 -0.29914 -0.02662 -0.27084 -0.02963 C -0.16823 -0.04051 -0.15903 -0.03912 -0.05695 -0.04259 C -0.03195 -0.05254 -0.00799 -0.06944 0.01805 -0.07222 C 0.07152 -0.07777 0.12482 -0.05926 0.17638 -0.04444 C 0.19097 -0.025 0.19444 -0.025 0.14027 -0.01111 C 0.09444 0.000699999999999999 0.04861 0.01273 0.00277 0.02408 C -0.14341 0.06065 -0.0658 0.04514 -0.24306 0.05556 C -0.34549 0.06158 -0.44757 0.07385 -0.55 0.07963 C -0.55365 0.08033 -0.56459 0.0831 -0.56112 0.08148 C -0.50261 0.05556 -0.44202 0.04769 -0.38195 0.02963 C -0.15903 -0.03727 -0.27934 0.00348 -0.15834 -0.05926 C -0.09809 -0.09051 -0.13733 -0.06504 -0.1125 -0.08148 C -0.17778 -0.10625 -0.11303 -0.08287 -0.29445 -0.08889 C -0.36441 -0.0912 -0.43421 -0.09537 -0.50417 -0.09815 C -0.53334 -0.0993 -0.5625 -0.10046 -0.59167 -0.10185 C -0.625 -0.10347 -0.69167 -0.1074 -0.69167 -0.1074 C -0.61875 -0.16921 -0.51702 -0.18102 -0.4375 -0.20185 C -0.37414 -0.21852 -0.30573 -0.22569 -0.24028 -0.23333 C -0.23247 -0.23264 -0.22414 -0.23472 -0.21667 -0.23148 C -0.21407 -0.23032 -0.22118 -0.22731 -0.22362 -0.22592 C -0.23282 -0.2206 -0.24167 -0.21389 -0.25139 -0.21111 C -0.27431 -0.20463 -0.29757 -0.20208 -0.32084 -0.19815 C -0.45365 -0.17523 -0.4007 -0.18217 -0.54445 -0.17777 C -0.6533 -0.17893 -0.76198 -0.1794 -0.87084 -0.18148 C -0.91563 -0.1824 -0.90556 -0.17847 -0.925 -0.18703 C -0.90365 -0.20602 -0.82275 -0.21412 -0.81667 -0.21481 C -0.75296 -0.22338 -0.62952 -0.23078 -0.56806 -0.23518 C -0.37934 -0.23333 -0.24098 -0.25092 -0.07084 -0.20555 C -0.12379 -0.17014 -0.17726 -0.16203 -0.23473 -0.14444 C -0.27483 -0.13217 -0.31389 -0.11435 -0.35417 -0.1037 C -0.55903 -0.04953 -0.7698 -0.04652 -0.97778 -0.04259 C -0.83941 -0.06574 -0.70035 -0.06458 -0.56112 -0.07037 C -0.43282 -0.06643 -0.31233 -0.0662 -0.18612 -0.05 C -0.17448 -0.0449 -0.20209 -0.03958 -0.21667 -0.03518 C -0.23785 -0.02893 -0.25903 -0.02268 -0.28056 -0.01852 C -0.35122 -0.00486 -0.4224 0.00625 -0.49306 0.01852 C -0.59514 0.03635 -0.7 0.03611 -0.80278 0.04074 C -0.81667 0.03889 -0.8323 0.04422 -0.84445 0.03519 C -0.84966 0.03148 -0.83559 0.02454 -0.83056 0.02037 C -0.81789 0.00973 -0.80539 -0.00115 -0.79167 -0.00926 C -0.75625 -0.03032 -0.65955 -0.075 -0.625 -0.08703 C -0.58785 -0.1 -0.54983 -0.10694 -0.5125 -0.11852 C -0.37917 -0.15949 -0.44046 -0.15139 -0.30834 -0.17407 C -0.28073 -0.17893 -0.25278 -0.18102 -0.225 -0.18518 C -0.20782 -0.18773 -0.1908 -0.19166 -0.17362 -0.19444 C -0.16806 -0.19537 -0.15139 -0.19629 -0.15695 -0.19629 C -0.17726 -0.19629 -0.19775 -0.19514 -0.21806 -0.19444 C -0.28837 -0.18657 -0.35782 -0.17639 -0.42778 -0.16481 C -0.44132 -0.1625 -0.46806 -0.15555 -0.46806 -0.15555 C -0.44844 -0.18171 -0.4224 -0.18402 -0.39723 -0.19815 C -0.37969 -0.20787 -0.36389 -0.22315 -0.34584 -0.23148 C -0.2323 -0.28356 -0.24237 -0.27801 -0.15695 -0.29259 C -0.13612 -0.2919 -0.11511 -0.29328 -0.09445 -0.29074 C -0.09254 -0.29051 -0.09705 -0.28657 -0.09879 -0.28518 C -0.11268 -0.27291 -0.12743 -0.2618 -0.14167 -0.25 C -0.16059 -0.23449 -0.18021 -0.22083 -0.2 -0.2074 C -0.30296 -0.13796 -0.24757 -0.17893 -0.36389 -0.11852 C -0.39497 -0.10254 -0.42448 -0.08217 -0.45556 -0.06666 C -0.48143 -0.0537 -0.50816 -0.04352 -0.53473 -0.03333 C -0.55452 -0.02569 -0.57483 -0.02106 -0.59445 -0.01296 C -0.679 0.02223 -0.61615 0.0007 -0.61389 0 C -0.58907 -0.02893 -0.61789 0.00209 -0.56806 -0.03333 C -0.52969 -0.06065 -0.49219 -0.09004 -0.45417 -0.11852 C -0.35035 -0.19606 -0.2316 -0.26412 -0.11528 -0.3 C -0.09618 -0.30578 -0.07639 -0.30555 -0.05695 -0.30926 C -0.01077 -0.37083 0.06007 -0.40764 0.12222 -0.43518 C 0.10173 -0.40393 0.08819 -0.37777 0.06111 -0.35 C 0.04722 -0.33588 0.03298 -0.32222 0.01944 -0.3074 C -0.03247 -0.25069 -0.00139 -0.275 -0.06112 -0.22222 C -0.08577 -0.20046 -0.11268 -0.18333 -0.13612 -0.15926 C -0.17466 -0.11967 -0.15868 -0.13125 -0.18056 -0.11666 C -0.16337 -0.15486 -0.11441 -0.20717 -0.0875 -0.23333 C -0.05209 -0.26782 -0.01546 -0.30023 0.02083 -0.33333 C 0.05694 -0.3662 0.09079 -0.39861 0.13333 -0.41481 C 0.10729 -0.36273 0.05434 -0.33634 0.01527 -0.3074 C -0.00487 -0.29259 -0.02344 -0.27384 -0.04445 -0.26111 C -0.14184 -0.20139 -0.24705 -0.1794 -0.35278 -0.16852 C -0.41737 -0.17523 -0.47431 -0.18171 -0.53473 -0.21296 C -0.56268 -0.24236 -0.57657 -0.25254 -0.57917 -0.30185 C -0.57518 -0.42176 -0.52292 -0.53796 -0.45695 -0.61852 C -0.44428 -0.63402 -0.40695 -0.68148 -0.38473 -0.68889 C -0.41702 -0.6243 -0.4665 -0.57569 -0.51806 -0.54074 C -0.5573 -0.51412 -0.5948 -0.47963 -0.6375 -0.46481 C -0.70382 -0.4419 -0.76493 -0.42315 -0.83334 -0.41852 C -0.86528 -0.42129 -0.88855 -0.4199 -0.91389 -0.44629 C -0.91945 -0.49768 -0.88525 -0.54074 -0.86528 -0.57777 C -0.84809 -0.60949 -0.79115 -0.66481 -0.75573 -0.68148 C -0.7257 -0.69537 -0.69514 -0.69629 -0.66389 -0.7 C -0.48559 -0.6949 -0.31737 -0.61527 -0.15278 -0.52963 C -0.10625 -0.50532 -0.05782 -0.48102 -0.01667 -0.44259 C -0.00782 -0.425 -0.054 -0.41551 -0.06389 -0.41296 C -0.11528 -0.4 -0.16719 -0.39722 -0.21945 -0.39444 C -0.33612 -0.41065 -0.46459 -0.42801 -0.575 -0.47963 C -0.62639 -0.5037 -0.67657 -0.5331 -0.72917 -0.55185 C -0.7599 -0.56296 -0.8033 -0.56921 -0.82778 -0.60185 C -0.82553 -0.6118 -0.82431 -0.62384 -0.81806 -0.63148 C -0.79636 -0.6581 -0.75747 -0.6581 -0.73056 -0.66111 C -0.6257 -0.65902 -0.52639 -0.64815 -0.42362 -0.61852 C -0.37483 -0.6044 -0.32136 -0.5875 -0.27917 -0.55 C -0.27553 -0.54259 -0.27639 -0.53657 -0.28334 -0.53148 C -0.29549 -0.52268 -0.30834 -0.51551 -0.32084 -0.5074 C -0.38976 -0.46319 -0.46875 -0.44213 -0.54445 -0.43703 C -0.55417 -0.43889 -0.56389 -0.44051 -0.57362 -0.44259 C -0.57587 -0.44305 -0.57882 -0.44236 -0.58056 -0.44444 C -0.58195 -0.44606 -0.58143 -0.4493 -0.58195 -0.45185 C -0.5757 -0.50486 -0.57796 -0.49213 -0.54723 -0.52407 C -0.53907 -0.53264 -0.53334 -0.54629 -0.52362 -0.55185 C -0.45469 -0.59097 -0.41719 -0.59791 -0.35 -0.61666 C -0.26355 -0.61527 -0.12848 -0.63981 -0.0625 -0.53703 C -0.06059 -0.52245 -0.06598 -0.51921 -0.075 -0.50926 C -0.09566 -0.4868 -0.11563 -0.4699 -0.14028 -0.45555 C -0.24775 -0.39282 -0.35799 -0.37384 -0.47362 -0.36852 C -0.60087 -0.38171 -0.76459 -0.38264 -0.86667 -0.5074 C -0.88716 -0.58055 -0.81684 -0.61759 -0.77518 -0.63148 C -0.76407 -0.63518 -0.75278 -0.6368 -0.74167 -0.63889 C -0.72969 -0.6412 -0.71771 -0.64328 -0.70556 -0.64444 C -0.68803 -0.64629 -0.67032 -0.64699 -0.65278 -0.64815 C -0.60556 -0.64699 -0.57032 -0.65208 -0.52778 -0.63148 C -0.52188 -0.6074 -0.52275 -0.6169 -0.56112 -0.58518 C -0.60365 -0.55 -0.64636 -0.51481 -0.68889 -0.47963 C -0.71771 -0.45578 -0.74914 -0.43773 -0.78056 -0.42037 C -0.84931 -0.38264 -0.98889 -0.31481 -0.98889 -0.31481 C -0.9908 -0.30069 -0.98959 -0.25926 -0.99445 -0.27222 C -0.99966 -0.28611 -0.99271 -0.30324 -0.99028 -0.31852 C -0.98021 -0.38032 -0.90139 -0.42453 -0.87223 -0.44629 C -0.84549 -0.4662 -0.79688 -0.50092 -0.76806 -0.51111 C -0.70313 -0.53426 -0.63056 -0.5331 -0.56389 -0.53703 C -0.50469 -0.53449 -0.44497 -0.53703 -0.38612 -0.52777 C -0.36198 -0.52407 -0.33803 -0.51643 -0.31389 -0.51296 C -0.30973 -0.51227 -0.30556 -0.5118 -0.30139 -0.51111 C -0.30573 -0.4875 -0.32379 -0.47639 -0.33612 -0.46111 C -0.34862 -0.4456 -0.35938 -0.42777 -0.37223 -0.41296 C -0.45799 -0.31342 -0.54636 -0.2169 -0.65973 -0.18333 C -0.675 -0.18842 -0.66025 -0.20162 -0.65417 -0.20926 C -0.61303 -0.25995 -0.57691 -0.30995 -0.52362 -0.33889 C -0.4066 -0.40254 -0.30539 -0.42662 -0.17917 -0.43333 C -0.10625 -0.43148 -0.00816 -0.43078 0.05555 -0.37407 C 0.05 -0.35555 0.04253 -0.35764 0.02638 -0.34815 C 0.00816 -0.3375 0.01875 -0.34236 -0.00278 -0.33518 C -0.02657 -0.33842 -0.05157 -0.33819 -0.07362 -0.3537 C -0.09323 -0.36759 -0.10973 -0.39768 -0.12084 -0.42222 C -0.125 -0.4581 -0.12292 -0.48842 -0.10139 -0.51481 C -0.09549 -0.52199 -0.0882 -0.52685 -0.08195 -0.53333 C -0.07622 -0.53912 -0.07153 -0.54699 -0.06528 -0.55185 C -0.05695 -0.55833 -0.03889 -0.56666 -0.03889 -0.56666 C -0.02761 -0.56296 -0.03212 -0.5669 -0.04445 -0.54629 C -0.06684 -0.50926 -0.10087 -0.49537 -0.12917 -0.47037 C -0.14393 -0.45717 -0.15573 -0.43842 -0.17084 -0.42592 C -0.19202 -0.4081 -0.25712 -0.37268 -0.27917 -0.36111 C -0.32657 -0.33657 -0.37535 -0.31597 -0.42639 -0.31111 C -0.43004 -0.31227 -0.43421 -0.31227 -0.4375 -0.31481 C -0.4448 -0.32014 -0.43091 -0.35277 -0.43056 -0.3537 C -0.42084 -0.37569 -0.40452 -0.4 -0.39167 -0.41666 C -0.329 -0.49838 -0.24653 -0.56643 -0.15834 -0.58333 C -0.14011 -0.5794 -0.15695 -0.56435 -0.16528 -0.5574 C -0.18473 -0.5412 -0.20521 -0.52662 -0.225 -0.51111 C -0.24202 -0.49791 -0.26285 -0.49676 -0.28195 -0.49074 C -0.33733 -0.47291 -0.32813 -0.47777 -0.39046 -0.47407 C -0.45191 -0.47801 -0.49671 -0.49213 -0.55556 -0.51481 C -0.57414 -0.53055 -0.59289 -0.54027 -0.60278 -0.56852 C -0.60573 -0.57708 -0.60469 -0.58703 -0.60556 -0.59629 C -0.60157 -0.64375 -0.5875 -0.6824 -0.5625 -0.71852 C -0.54636 -0.7419 -0.52726 -0.7618 -0.50973 -0.78333 C -0.50365 -0.79074 -0.49462 -0.79259 -0.4875 -0.79815 C -0.4849 -0.8 -0.47813 -0.80764 -0.48056 -0.80555 C -0.51771 -0.77407 -0.56007 -0.75717 -0.59723 -0.72592 C -0.62639 -0.70139 -0.64862 -0.68009 -0.68195 -0.66481 C -0.70504 -0.6544 -0.72934 -0.64953 -0.75278 -0.64074 C -0.82292 -0.61412 -0.89375 -0.5787 -0.96528 -0.5574 C -0.95712 -0.57361 -0.93369 -0.59328 -0.92223 -0.6 C -0.87153 -0.62963 -0.79358 -0.6699 -0.73629 -0.68518 C -0.70278 -0.69398 -0.66841 -0.69514 -0.63473 -0.70185 C -0.48577 -0.69861 -0.34063 -0.69259 -0.19584 -0.64259 C -0.1382 -0.62268 -0.0691 -0.60092 -0.02362 -0.54629 C -0.0099 -0.50995 -0.04879 -0.4787 -0.06684 -0.46296 C -0.15296 -0.38703 -0.24983 -0.35879 -0.35157 -0.34444 C -0.44671 -0.35277 -0.48073 -0.33889 -0.55278 -0.4 C -0.56355 -0.43217 -0.55296 -0.45416 -0.53195 -0.47222 C -0.49063 -0.50787 -0.44497 -0.53379 -0.39584 -0.54259 C -0.37049 -0.54722 -0.34497 -0.54629 -0.31945 -0.54815 C -0.26893 -0.54629 -0.21806 -0.55208 -0.16806 -0.54259 C -0.01146 -0.51319 0.13142 -0.41041 0.28888 -0.38703 C 0.29097 -0.38773 0.29479 -0.38611 0.29583 -0.38889 C 0.2967 -0.3912 0.29218 -0.39074 0.29027 -0.39074 C 0.23281 -0.39305 0.17552 -0.39444 0.11805 -0.39629 C 0.09149 -0.40648 0.07447 -0.40208 0.06527 -0.43889 C 0.06336 -0.45648 0.06371 -0.47361 0.06805 -0.49074 C 0.06857 -0.48819 0.06753 -0.48402 0.06944 -0.48333 C 0.07135 -0.48264 0.07222 -0.48703 0.07361 -0.48889 C 0.08055 -0.49699 0.08732 -0.50509 0.09444 -0.51296 C 0.10052 -0.5199 0.11493 -0.53518 0.12222 -0.54074 C 0.1335 -0.5493 0.14531 -0.55671 0.15694 -0.56481 C 0.16319 -0.56921 0.17083 -0.56805 0.17777 -0.57037 C 0.19149 -0.57477 0.20468 -0.58102 0.21805 -0.58703 C 0.21961 -0.58773 0.21527 -0.58449 0.21388 -0.58333 C 0.20659 -0.57754 0.19913 -0.57222 0.19166 -0.56666 C 0.17725 -0.55578 0.16163 -0.55532 0.14583 -0.55185 C 0.1375 -0.55463 0.13663 -0.55578 0.13333 -0.56666 C 0.13507 -0.58703 0.13281 -0.59629 0.14027 -0.61111 C 0.14322 -0.6169 0.15364 -0.63264 0.15 -0.62777 C 0.11666 -0.58333 0.07638 -0.5544 0.0375 -0.52037 C 0.02916 -0.51319 0.02239 -0.50277 0.01388 -0.49629 C -0.02101 -0.47083 -0.06181 -0.46319 -0.1 -0.45185 C -0.10834 -0.45301 -0.11702 -0.45185 -0.125 -0.45555 C -0.13143 -0.45856 -0.12275 -0.47477 -0.11806 -0.48148 C -0.11094 -0.49166 -0.10365 -0.50185 -0.09584 -0.51111 C -0.06997 -0.5412 -0.03073 -0.58125 -0.00139 -0.6037 C 0.10295 -0.68356 0.19548 -0.70023 0.3125 -0.7074 C 0.3467 -0.70555 0.38107 -0.70509 0.41527 -0.70185 C 0.44791 -0.69861 0.39791 -0.68032 0.39583 -0.67963 C 0.26632 -0.64236 0.3552 -0.66713 0.24444 -0.65185 C 0.10486 -0.63264 -0.0316 -0.61065 -0.17223 -0.60555 C -0.19601 -0.60694 -0.23212 -0.60324 -0.25834 -0.61481 C -0.26632 -0.64676 -0.20886 -0.67384 -0.19584 -0.67963 C -0.11094 -0.71782 -0.07587 -0.72801 0.01388 -0.73333 C 0.11545 -0.72963 0.20329 -0.72685 0.30138 -0.69815 C 0.33541 -0.68819 0.38524 -0.67777 0.41666 -0.65 C 0.4052 -0.64236 0.37899 -0.63981 0.36805 -0.63889 C 0.33107 -0.63588 0.25694 -0.63333 0.25694 -0.63333 C 0.03854 -0.64051 -0.17796 -0.64791 -0.39445 -0.69074 C -0.40261 -0.69467 -0.41702 -0.69398 -0.41806 -0.70555 C -0.41875 -0.71389 -0.40834 -0.72338 -0.40556 -0.72592 C -0.3849 -0.74375 -0.37275 -0.74537 -0.34584 -0.75347 C -0.24688 -0.78426 -0.14532 -0.78148 -0.04445 -0.78518 C 0.11423 -0.77453 0.26927 -0.75393 0.42638 -0.72222 C 0.42586 -0.69143 0.42986 -0.65972 0.425 -0.62963 C 0.42395 -0.62361 0.41579 -0.62824 0.41111 -0.62777 C 0.3967 -0.62592 0.38246 -0.62199 0.36805 -0.62037 C 0.31354 -0.61458 0.25885 -0.61759 0.20416 -0.61666 C 0.08333 -0.62291 -0.03455 -0.63634 -0.15417 -0.6574 C -0.19202 -0.66412 -0.24948 -0.68148 -0.28056 -0.71458 C -0.28282 -0.72662 -0.27396 -0.73333 -0.26528 -0.73518 C -0.22257 -0.74444 -0.20122 -0.7449 -0.15973 -0.74815 C -0.03351 -0.74652 0.08576 -0.73958 0.20972 -0.70926 C 0.27847 -0.69236 0.35503 -0.67477 0.41666 -0.62777 C 0.39982 -0.62037 0.34062 -0.63958 0.325 -0.64259 C 0.31215 -0.6449 0.29895 -0.64583 0.28611 -0.64815 C 0.25312 -0.65393 0.22031 -0.66041 0.1875 -0.66666 C 0.15451 -0.67291 0.12204 -0.68379 0.08871 -0.68889 C 0.07691 -0.69074 0.06475 -0.69259 0.05277 -0.69444 C 0.04722 -0.69629 0.04166 -0.69791 0.03611 -0.7 C 0.03333 -0.70115 0.02951 -0.70069 0.02777 -0.7037 C 0.02673 -0.70555 0.03038 -0.70648 0.03194 -0.7074 C 0.03454 -0.70902 0.0375 -0.71018 0.04027 -0.71111 C 0.04444 -0.7125 0.04861 -0.71342 0.05277 -0.71458 C 0.05833 -0.71666 0.06388 -0.71828 0.06944 -0.72037 C 0.0901 -0.72754 0.11076 -0.73356 0.13194 -0.73703 C 0.14409 -0.74236 0.12534 -0.73634 0.12222 -0.73518 C 0.11718 -0.72639 0.11649 -0.71666 0.1125 -0.7074 C 0.11163 -0.70555 0.11145 -0.70185 0.10972 -0.70185 C 0.10833 -0.70185 0.11041 -0.70578 0.11111 -0.7074 C 0.11302 -0.71203 0.11579 -0.71597 0.11805 -0.72037 C 0.11753 -0.71412 0.1177 -0.70787 0.11666 -0.70185 C 0.11632 -0.69977 0.11441 -0.69838 0.11388 -0.69629 C 0.11302 -0.69282 0.11302 -0.68889 0.1125 -0.68518 C 0.11302 -0.68333 0.1125 -0.6787 0.11388 -0.67963 C 0.11632 -0.68125 0.11649 -0.68588 0.11805 -0.68889 C 0.11927 -0.69143 0.12378 -0.69838 0.12222 -0.69629 C 0.12031 -0.69375 0.11857 -0.6912 0.11666 -0.68889 C 0.11545 -0.6875 0.11371 -0.68657 0.1125 -0.68518 C 0.11059 -0.68287 0.10885 -0.68032 0.10694 -0.67777 C 0.10555 -0.67847 0.10416 -0.68032 0.10277 -0.67963 C 0.10017 -0.67824 0.09913 -0.67453 0.09722 -0.67222 C 0.09201 -0.66643 0.08611 -0.66227 0.08055 -0.6574 C 0.07916 -0.66527 0.07812 -0.66551 0.08055 -0.67407 C 0.08107 -0.67615 0.08402 -0.67754 0.08333 -0.67963 C 0.08263 -0.68148 0.08055 -0.67847 0.07916 -0.67777 C 0.07725 -0.67592 0.07517 -0.6743 0.07361 -0.67222 C 0.07239 -0.6706 0.07204 -0.66805 0.07083 -0.66666 C 0.06614 -0.66134 0.05972 -0.65555 0.05416 -0.65185 C 0.05468 -0.6544 0.05486 -0.65694 0.05555 -0.65926 C 0.05625 -0.66134 0.06007 -0.66481 0.05833 -0.66481 C 0.05642 -0.66481 0.05572 -0.66088 0.05416 -0.65926 C 0.05243 -0.65717 0.05034 -0.65578 0.04861 -0.6537 C 0.04079 -0.64467 0.03229 -0.63727 0.02361 -0.62963 C 0.01527 -0.63703 0.01892 -0.64444 0.02361 -0.6537 C 0.02413 -0.65671 0.02447 -0.65995 0.025 -0.66296 C 0.02534 -0.66481 0.02777 -0.66782 0.02638 -0.66852 C 0.025 -0.66921 0.01805 -0.66203 0.01666 -0.66111 C 0.00451 -0.65254 -0.01007 -0.64143 -0.02362 -0.63703 C -0.0257 -0.65069 -0.02153 -0.65625 -0.01806 -0.67037 C -0.01771 -0.67245 -0.01407 -0.6743 -0.01528 -0.67592 C -0.01667 -0.67777 -0.01893 -0.67477 -0.02084 -0.67407 C -0.02553 -0.66481 -0.02223 -0.66967 -0.03195 -0.66111 C -0.05139 -0.64375 -0.03299 -0.65046 -0.04862 -0.64629 C -0.05417 -0.64143 -0.05573 -0.63796 -0.05139 -0.65555 C -0.05053 -0.65902 -0.04532 -0.66736 -0.04723 -0.66481 C -0.05087 -0.65995 -0.0533 -0.65301 -0.05695 -0.64815 C -0.05973 -0.64444 -0.06233 -0.64051 -0.06528 -0.63703 C -0.06893 -0.63264 -0.07257 -0.62824 -0.07639 -0.62407 C -0.07952 -0.62083 -0.08316 -0.61828 -0.08612 -0.61481 C -0.10191 -0.5956 -0.08403 -0.6125 -0.09584 -0.60185 C -0.09271 -0.61458 -0.08907 -0.6294 -0.08334 -0.64074 C -0.08421 -0.64259 -0.08455 -0.64583 -0.08612 -0.64629 C -0.08768 -0.64676 -0.08889 -0.64375 -0.09028 -0.64259 C -0.09202 -0.6412 -0.0941 -0.64027 -0.09584 -0.63889 C -0.10209 -0.63356 -0.1066 -0.63009 -0.11389 -0.62777 C -0.11337 -0.63588 -0.10921 -0.64514 -0.1125 -0.65185 C -0.11459 -0.65602 -0.11928 -0.64745 -0.12223 -0.64444 C -0.12952 -0.63703 -0.13612 -0.62847 -0.14306 -0.62037 C -0.15782 -0.60324 -0.17431 -0.58426 -0.19306 -0.57592 C -0.19375 -0.57847 -0.19497 -0.58078 -0.19445 -0.58333 C -0.19393 -0.58588 -0.1915 -0.5868 -0.19028 -0.58889 C -0.18594 -0.59652 -0.18264 -0.60671 -0.17917 -0.61481 C -0.17796 -0.61782 -0.17743 -0.62106 -0.17657 -0.62407 C -0.17553 -0.62662 -0.17466 -0.62916 -0.17362 -0.63148 C -0.17275 -0.63333 -0.16945 -0.63842 -0.17084 -0.63703 C -0.18334 -0.62361 -0.19046 -0.60069 -0.20139 -0.58518 C -0.20452 -0.58078 -0.20903 -0.57801 -0.2125 -0.57407 C -0.21598 -0.57014 -0.21875 -0.56504 -0.2224 -0.56111 C -0.22726 -0.55532 -0.24931 -0.53217 -0.25434 -0.52963 C -0.25886 -0.52708 -0.26806 -0.52222 -0.26806 -0.52222 C -0.27223 -0.53611 -0.26997 -0.53518 -0.26389 -0.54815 C -0.25764 -0.56157 -0.25191 -0.57477 -0.24445 -0.58703 C -0.2507 -0.5375 -0.27396 -0.51504 -0.29584 -0.47963 C -0.32362 -0.43449 -0.3474 -0.38264 -0.37084 -0.33333 C -0.37796 -0.31828 -0.38299 -0.30185 -0.39046 -0.28703 C -0.39844 -0.27083 -0.40903 -0.25787 -0.41667 -0.24074 C -0.40174 -0.31412 -0.37691 -0.38148 -0.35 -0.44815 C -0.34184 -0.46828 -0.33351 -0.48842 -0.32639 -0.50926 C -0.32362 -0.51736 -0.32101 -0.52546 -0.31806 -0.53333 C -0.31632 -0.53773 -0.31424 -0.5419 -0.31268 -0.54629 C -0.31146 -0.5493 -0.30799 -0.55787 -0.30973 -0.55555 C -0.32362 -0.53703 -0.33646 -0.48703 -0.34584 -0.46481 C -0.37223 -0.40208 -0.4007 -0.34421 -0.43056 -0.28518 C -0.48316 -0.1824 -0.41094 -0.30926 -0.48889 -0.17777 C -0.49671 -0.16458 -0.50191 -0.15578 -0.5125 -0.14629 C -0.50886 -0.22338 -0.48525 -0.2912 -0.45139 -0.3537 C -0.44566 -0.36435 -0.43959 -0.375 -0.43334 -0.38518 C -0.42674 -0.39606 -0.4125 -0.41666 -0.4125 -0.41666 C -0.39046 -0.38703 -0.42049 -0.32222 -0.42917 -0.29259 C -0.4599 -0.18773 -0.48941 -0.08565 -0.53195 0.01297 C -0.54809 0.0507 -0.56216 0.09005 -0.58056 0.12593 C -0.58664 0.13773 -0.59306 0.14908 -0.59862 0.16111 C -0.60105 0.16621 -0.60747 0.18195 -0.60417 0.17778 C -0.56441 0.12755 -0.5724 0.11736 -0.53473 0.05926 C -0.52223 0.03982 -0.4099 -0.12615 -0.37223 -0.16481 C -0.31129 -0.22731 -0.2566 -0.27199 -0.19445 -0.32407 C -0.17778 -0.33796 -0.15903 -0.34745 -0.14028 -0.35555 C -0.13004 -0.35995 -0.10834 -0.36111 -0.10834 -0.36111 C -0.08421 -0.35046 -0.09341 -0.31666 -0.10139 -0.28333 C -0.1099 -0.24838 -0.13837 -0.17916 -0.15278 -0.13889 C -0.17466 -0.07754 -0.19428 -0.0125 -0.21945 0.0463 C -0.23056 0.07223 -0.24514 0.09514 -0.25695 0.12037 C -0.25903 0.125 -0.26181 0.12894 -0.26389 0.13334 C -0.26493 0.13565 -0.26841 0.14213 -0.26667 0.14074 C -0.24723 0.12477 -0.23316 0.09977 -0.21389 0.08334 C -0.18525 0.0588 -0.15851 0.04514 -0.125 0.0426 C -0.10903 0.04422 -0.09098 0.0456 -0.07639 0.05556 C -0.06771 0.06158 -0.05834 0.06667 -0.05139 0.07593 C -0.04723 0.08148 -0.03889 0.0926 -0.03889 0.0926 C -0.03785 0.09653 -0.0349 0.09954 -0.0349 0.10371 C -0.0349 0.11181 -0.03525 0.12014 -0.0375 0.12778 C -0.03907 0.1331 -0.04306 0.13635 -0.04584 0.14074 C -0.06007 0.16412 -0.07587 0.1831 -0.09723 0.19445 C -0.09671 0.19005 -0.09723 0.18542 -0.09584 0.18148 C -0.09115 0.16852 -0.07865 0.14584 -0.06945 0.13704 C -0.06112 0.12917 -0.05157 0.12385 -0.04306 0.11667 C -0.03698 0.11158 -0.02917 0.11227 -0.02223 0.10926 C -0.01216 0.10486 0.00069 0.10185 0.00972 0.09445 C 0.01371 0.09121 0.01718 0.08704 0.02083 0.08334 C 0.02222 0.08195 0.0243 0.07986 0.02361 0.07778 C 0.02291 0.07593 0.02083 0.07894 0.01944 0.07963 C 0.01163 0.09005 0.00555 0.09723 -0.00417 0.10371 C -0.01129 0.10047 -0.00643 0.1044 -0.00973 0.0963 C -0.01129 0.09236 -0.01528 0.08519 -0.01528 0.08519 C -0.01684 0.07292 -0.01667 0.07778 -0.01667 0.07037 C -0.02188 0.08426 -0.0349 0.08704 -0.03889 0.07037 C -0.03698 0.06297 -0.0349 0.05996 -0.02917 0.05741 C -0.02622 0.06343 -0.0224 0.06621 -0.01945 0.07223 C -0.01997 0.07477 -0.02084 0.07963 -0.02084 0.07963 L -0.03334 0.07778 C -0.02518 0.0581 -0.02987 0.05857 -0.01112 0.05926 C 0.00191 0.05973 0.02777 0.06297 0.02777 0.06297 L -0.03056 0.07037 L -0.72084 0.23704 C -0.71928 0.09236 -0.77952 -0.09398 -0.70278 -0.19629 C -0.70226 -0.19815 -0.70209 -0.20023 -0.70139 -0.20185 C -0.70018 -0.20463 -0.6974 -0.20926 -0.6974 -0.20926 C -0.50365 -0.23032 -0.31042 -0.25648 -0.11667 -0.27222 C -0.11042 -0.27268 -0.10625 -0.26273 -0.10139 -0.2574 C -0.08716 -0.24166 -0.07917 -0.21736 -0.06528 -0.20185 C -0.06042 -0.19652 -0.05504 -0.19213 -0.05 -0.18703 C -0.04462 -0.18171 -0.03334 -0.17222 -0.03334 -0.17222 C -0.14028 -0.01111 -0.2441 0.15371 -0.35417 0.31111 C -0.36372 0.32477 -0.38195 0.31621 -0.39584 0.31852 C -0.39948 0.31922 -0.40695 0.32037 -0.40695 0.32037 C -0.41389 0.31968 -0.42101 0.32014 -0.42778 0.31852 C -0.43473 0.3169 -0.44393 0.30741 -0.44862 0.30185 C -0.4698 0.27639 -0.48299 0.24861 -0.49445 0.21297 C -0.50191 0.19005 -0.50921 0.16736 -0.51667 0.14445 C -0.52032 0.13287 -0.52639 0.10926 -0.52639 0.10926 C -0.53612 -0.01921 -0.55782 -0.14699 -0.55556 -0.27592 C -0.55539 -0.28495 -0.48768 -0.29977 -0.47778 -0.3 C -0.43195 -0.30046 -0.38612 -0.3 -0.34028 -0.3 C -0.14688 -0.13078 -0.03386 -0.17893 -0.08334 0.05185 C -0.08559 0.07385 -0.08716 0.09977 -0.09445 0.12037 C -0.09618 0.12523 -0.09931 0.12871 -0.10139 0.13334 C -0.10452 0.13982 -0.10417 0.14815 -0.11112 0.14815 C -0.13698 0.14514 -0.16303 0.14167 -0.18889 0.13889 C -0.22414 0.13496 -0.22952 0.13773 -0.25556 0.11852 C -0.26441 0.10093 -0.27396 0.0831 -0.28195 0.06482 C -0.28559 0.05648 -0.29167 0.03889 -0.29167 0.03889 L -0.1375 -0.22407 C -0.07188 -0.18819 -0.05678 -0.19884 -0.025 -0.14259 C -0.02275 -0.13032 -0.01997 -0.11805 -0.01806 -0.10555 C -0.01997 -0.08889 -0.02205 -0.07268 -0.02778 -0.0574 C -0.02969 -0.05208 -0.03195 -0.04699 -0.0349 -0.04259 C -0.03629 -0.04027 -0.04028 -0.03703 -0.04028 -0.03703 C -0.00487 0.20301 -0.06025 0.22848 0.03611 0.1963 C 0.04531 0.18403 0.05434 0.17523 0.06527 0.16667 C 0.06718 0.16505 0.06909 0.1632 0.07083 0.16111 C 0.07239 0.15949 0.075 0.15556 0.075 0.15556 L 0.03888 0.14815 C 0.01666 0.12662 -0.00695 0.10741 -0.02778 0.08334 C -0.02952 0.08125 -0.02518 0.07824 -0.02362 0.07593 C -0.01719 0.06644 -0.01233 0.06181 -0.00417 0.05556 C -0.00087 0.05301 0.00555 0.04815 0.00555 0.04815 L 0.03194 0.00556 L 0.02916 -0.0074 E">
                                      <p:cBhvr>
                                        <p:cTn id="47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951 0.0132 0.00069 -0.00254 0.01805 0.01297 C 0.02013 0.01482 0.02274 0.01505 0.025 0.01667 C 0.03263 0.02223 0.03715 0.0294 0.04288 0.03704 C 0.04826 0.04398 0.05416 0.04908 0.05833 0.05741 C 0.06041 0.06875 0.07083 0.09769 0.05694 0.10185 C 0.05243 0.10324 0.04774 0.10301 0.04288 0.10371 C 0.01875 0.10093 -0.00678 0.09861 -0.03056 0.09074 C -0.03195 0.08959 -0.03351 0.08866 -0.0349 0.08704 C -0.04254 0.07662 -0.02778 0.07662 -0.02362 0.07593 C -0.00625 0.07986 0.0125 0.0963 0.025 0.11297 C 0.03576 0.12732 0.02795 0.12153 0.04027 0.13519 C 0.04739 0.14306 0.05277 0.14746 0.05833 0.15741 C 0.05781 0.16181 0.05816 0.16621 0.05694 0.17037 C 0.05572 0.17454 0.05138 0.18148 0.05138 0.18148 C 0.03854 0.1794 0.04201 0.18125 0.03055 0.17408 C 0.025 0.1706 0.01388 0.16297 0.01388 0.16297 C 0.00572 0.14954 -0.00469 0.14005 -0.01389 0.12778 C -0.02205 0.09514 0.0184 0.08704 0.03333 0.08519 C 0.04826 0.08727 0.06319 0.08866 0.07777 0.0926 C 0.08281 0.10278 0.07534 0.10093 0.06944 0.11111 C 0.06684 0.11574 0.06545 0.12176 0.0625 0.12593 C 0.05364 0.13866 0.03454 0.14375 0.025 0.14815 C 0.02083 0.15 0.0125 0.15371 0.0125 0.15371 C 0.00277 0.15278 -0.00782 0.15533 -0.01667 0.15 C -0.02223 0.14676 -0.0257 0.1382 -0.03056 0.13334 C -0.03594 0.11204 -0.03421 0.12246 -0.03612 0.10185 C -0.03403 0.07431 -0.03577 0.07894 -0.01389 0.07223 C -0.000529999999999999 0.05949 0.01302 0.05116 0.02916 0.04815 C 0.00034 0.0963 -0.08021 0.09792 -0.12084 0.10556 C -0.19115 0.1044 -0.26181 0.11019 -0.33195 0.10185 C -0.34098 0.1007 -0.31632 0.08935 -0.30834 0.08334 C -0.28247 0.06343 -0.25747 0.04121 -0.23056 0.02408 C -0.14601 -0.02963 -0.06216 -0.0787 0.03194 -0.08333 C 0.03663 -0.08148 0.05 -0.08102 0.04583 -0.07777 C 0.0177 -0.05578 -0.02657 -0.05324 -0.05695 -0.04815 C -0.15834 -0.05995 -0.25504 -0.04236 -0.35556 -0.02407 C -0.36893 -0.01852 -0.3823 -0.01227 -0.39584 -0.0074 C -0.40313 -0.00486 -0.41129 0.00255 -0.41806 -0.00185 C -0.42414 -0.00578 -0.40521 -0.0074 -0.39862 -0.00926 C -0.38438 -0.01296 -0.36997 -0.0162 -0.35556 -0.01852 C -0.32743 -0.02291 -0.29914 -0.02662 -0.27084 -0.02963 C -0.16823 -0.04051 -0.15903 -0.03912 -0.05695 -0.04259 C -0.03195 -0.05254 -0.00799 -0.06944 0.01805 -0.07222 C 0.07152 -0.07777 0.12482 -0.05926 0.17638 -0.04444 C 0.19097 -0.025 0.19444 -0.025 0.14027 -0.01111 C 0.09444 0.000699999999999999 0.04861 0.01273 0.00277 0.02408 C -0.14341 0.06065 -0.0658 0.04514 -0.24306 0.05556 C -0.34549 0.06158 -0.44757 0.07385 -0.55 0.07963 C -0.55365 0.08033 -0.56459 0.0831 -0.56112 0.08148 C -0.50261 0.05556 -0.44202 0.04769 -0.38195 0.02963 C -0.15903 -0.03727 -0.27934 0.00348 -0.15834 -0.05926 C -0.09809 -0.09051 -0.13733 -0.06504 -0.1125 -0.08148 C -0.17778 -0.10625 -0.11303 -0.08287 -0.29445 -0.08889 C -0.36441 -0.0912 -0.43421 -0.09537 -0.50417 -0.09815 C -0.53334 -0.0993 -0.5625 -0.10046 -0.59167 -0.10185 C -0.625 -0.10347 -0.69167 -0.1074 -0.69167 -0.1074 C -0.61875 -0.16921 -0.51702 -0.18102 -0.4375 -0.20185 C -0.37414 -0.21852 -0.30573 -0.22569 -0.24028 -0.23333 C -0.23247 -0.23264 -0.22414 -0.23472 -0.21667 -0.23148 C -0.21407 -0.23032 -0.22118 -0.22731 -0.22362 -0.22592 C -0.23282 -0.2206 -0.24167 -0.21389 -0.25139 -0.21111 C -0.27431 -0.20463 -0.29757 -0.20208 -0.32084 -0.19815 C -0.45365 -0.17523 -0.4007 -0.18217 -0.54445 -0.17777 C -0.6533 -0.17893 -0.76198 -0.1794 -0.87084 -0.18148 C -0.91563 -0.1824 -0.90556 -0.17847 -0.925 -0.18703 C -0.90365 -0.20602 -0.82275 -0.21412 -0.81667 -0.21481 C -0.75296 -0.22338 -0.62952 -0.23078 -0.56806 -0.23518 C -0.37934 -0.23333 -0.24098 -0.25092 -0.07084 -0.20555 C -0.12379 -0.17014 -0.17726 -0.16203 -0.23473 -0.14444 C -0.27483 -0.13217 -0.31389 -0.11435 -0.35417 -0.1037 C -0.55903 -0.04953 -0.7698 -0.04652 -0.97778 -0.04259 C -0.83941 -0.06574 -0.70035 -0.06458 -0.56112 -0.07037 C -0.43282 -0.06643 -0.31233 -0.0662 -0.18612 -0.05 C -0.17448 -0.0449 -0.20209 -0.03958 -0.21667 -0.03518 C -0.23785 -0.02893 -0.25903 -0.02268 -0.28056 -0.01852 C -0.35122 -0.00486 -0.4224 0.00625 -0.49306 0.01852 C -0.59514 0.03635 -0.7 0.03611 -0.80278 0.04074 C -0.81667 0.03889 -0.8323 0.04422 -0.84445 0.03519 C -0.84966 0.03148 -0.83559 0.02454 -0.83056 0.02037 C -0.81789 0.00973 -0.80539 -0.00115 -0.79167 -0.00926 C -0.75625 -0.03032 -0.65955 -0.075 -0.625 -0.08703 C -0.58785 -0.1 -0.54983 -0.10694 -0.5125 -0.11852 C -0.37917 -0.15949 -0.44046 -0.15139 -0.30834 -0.17407 C -0.28073 -0.17893 -0.25278 -0.18102 -0.225 -0.18518 C -0.20782 -0.18773 -0.1908 -0.19166 -0.17362 -0.19444 C -0.16806 -0.19537 -0.15139 -0.19629 -0.15695 -0.19629 C -0.17726 -0.19629 -0.19775 -0.19514 -0.21806 -0.19444 C -0.28837 -0.18657 -0.35782 -0.17639 -0.42778 -0.16481 C -0.44132 -0.1625 -0.46806 -0.15555 -0.46806 -0.15555 C -0.44844 -0.18171 -0.4224 -0.18402 -0.39723 -0.19815 C -0.37969 -0.20787 -0.36389 -0.22315 -0.34584 -0.23148 C -0.2323 -0.28356 -0.24237 -0.27801 -0.15695 -0.29259 C -0.13612 -0.2919 -0.11511 -0.29328 -0.09445 -0.29074 C -0.09254 -0.29051 -0.09705 -0.28657 -0.09879 -0.28518 C -0.11268 -0.27291 -0.12743 -0.2618 -0.14167 -0.25 C -0.16059 -0.23449 -0.18021 -0.22083 -0.2 -0.2074 C -0.30296 -0.13796 -0.24757 -0.17893 -0.36389 -0.11852 C -0.39497 -0.10254 -0.42448 -0.08217 -0.45556 -0.06666 C -0.48143 -0.0537 -0.50816 -0.04352 -0.53473 -0.03333 C -0.55452 -0.02569 -0.57483 -0.02106 -0.59445 -0.01296 C -0.679 0.02223 -0.61615 0.0007 -0.61389 0 C -0.58907 -0.02893 -0.61789 0.00209 -0.56806 -0.03333 C -0.52969 -0.06065 -0.49219 -0.09004 -0.45417 -0.11852 C -0.35035 -0.19606 -0.2316 -0.26412 -0.11528 -0.3 C -0.09618 -0.30578 -0.07639 -0.30555 -0.05695 -0.30926 C -0.01077 -0.37083 0.06007 -0.40764 0.12222 -0.43518 C 0.10173 -0.40393 0.08819 -0.37777 0.06111 -0.35 C 0.04722 -0.33588 0.03298 -0.32222 0.01944 -0.3074 C -0.03247 -0.25069 -0.00139 -0.275 -0.06112 -0.22222 C -0.08577 -0.20046 -0.11268 -0.18333 -0.13612 -0.15926 C -0.17466 -0.11967 -0.15868 -0.13125 -0.18056 -0.11666 C -0.16337 -0.15486 -0.11441 -0.20717 -0.0875 -0.23333 C -0.05209 -0.26782 -0.01546 -0.30023 0.02083 -0.33333 C 0.05694 -0.3662 0.09079 -0.39861 0.13333 -0.41481 C 0.10729 -0.36273 0.05434 -0.33634 0.01527 -0.3074 C -0.00487 -0.29259 -0.02344 -0.27384 -0.04445 -0.26111 C -0.14184 -0.20139 -0.24705 -0.1794 -0.35278 -0.16852 C -0.41737 -0.17523 -0.47431 -0.18171 -0.53473 -0.21296 C -0.56268 -0.24236 -0.57657 -0.25254 -0.57917 -0.30185 C -0.57518 -0.42176 -0.52292 -0.53796 -0.45695 -0.61852 C -0.44428 -0.63402 -0.40695 -0.68148 -0.38473 -0.68889 C -0.41702 -0.6243 -0.4665 -0.57569 -0.51806 -0.54074 C -0.5573 -0.51412 -0.5948 -0.47963 -0.6375 -0.46481 C -0.70382 -0.4419 -0.76493 -0.42315 -0.83334 -0.41852 C -0.86528 -0.42129 -0.88855 -0.4199 -0.91389 -0.44629 C -0.91945 -0.49768 -0.88525 -0.54074 -0.86528 -0.57777 C -0.84809 -0.60949 -0.79115 -0.66481 -0.75573 -0.68148 C -0.7257 -0.69537 -0.69514 -0.69629 -0.66389 -0.7 C -0.48559 -0.6949 -0.31737 -0.61527 -0.15278 -0.52963 C -0.10625 -0.50532 -0.05782 -0.48102 -0.01667 -0.44259 C -0.00782 -0.425 -0.054 -0.41551 -0.06389 -0.41296 C -0.11528 -0.4 -0.16719 -0.39722 -0.21945 -0.39444 C -0.33612 -0.41065 -0.46459 -0.42801 -0.575 -0.47963 C -0.62639 -0.5037 -0.67657 -0.5331 -0.72917 -0.55185 C -0.7599 -0.56296 -0.8033 -0.56921 -0.82778 -0.60185 C -0.82553 -0.6118 -0.82431 -0.62384 -0.81806 -0.63148 C -0.79636 -0.6581 -0.75747 -0.6581 -0.73056 -0.66111 C -0.6257 -0.65902 -0.52639 -0.64815 -0.42362 -0.61852 C -0.37483 -0.6044 -0.32136 -0.5875 -0.27917 -0.55 C -0.27553 -0.54259 -0.27639 -0.53657 -0.28334 -0.53148 C -0.29549 -0.52268 -0.30834 -0.51551 -0.32084 -0.5074 C -0.38976 -0.46319 -0.46875 -0.44213 -0.54445 -0.43703 C -0.55417 -0.43889 -0.56389 -0.44051 -0.57362 -0.44259 C -0.57587 -0.44305 -0.57882 -0.44236 -0.58056 -0.44444 C -0.58195 -0.44606 -0.58143 -0.4493 -0.58195 -0.45185 C -0.5757 -0.50486 -0.57796 -0.49213 -0.54723 -0.52407 C -0.53907 -0.53264 -0.53334 -0.54629 -0.52362 -0.55185 C -0.45469 -0.59097 -0.41719 -0.59791 -0.35 -0.61666 C -0.26355 -0.61527 -0.12848 -0.63981 -0.0625 -0.53703 C -0.06059 -0.52245 -0.06598 -0.51921 -0.075 -0.50926 C -0.09566 -0.4868 -0.11563 -0.4699 -0.14028 -0.45555 C -0.24775 -0.39282 -0.35799 -0.37384 -0.47362 -0.36852 C -0.60087 -0.38171 -0.76459 -0.38264 -0.86667 -0.5074 C -0.88716 -0.58055 -0.81684 -0.61759 -0.77518 -0.63148 C -0.76407 -0.63518 -0.75278 -0.6368 -0.74167 -0.63889 C -0.72969 -0.6412 -0.71771 -0.64328 -0.70556 -0.64444 C -0.68803 -0.64629 -0.67032 -0.64699 -0.65278 -0.64815 C -0.60556 -0.64699 -0.57032 -0.65208 -0.52778 -0.63148 C -0.52188 -0.6074 -0.52275 -0.6169 -0.56112 -0.58518 C -0.60365 -0.55 -0.64636 -0.51481 -0.68889 -0.47963 C -0.71771 -0.45578 -0.74914 -0.43773 -0.78056 -0.42037 C -0.84931 -0.38264 -0.98889 -0.31481 -0.98889 -0.31481 C -0.9908 -0.30069 -0.98959 -0.25926 -0.99445 -0.27222 C -0.99966 -0.28611 -0.99271 -0.30324 -0.99028 -0.31852 C -0.98021 -0.38032 -0.90139 -0.42453 -0.87223 -0.44629 C -0.84549 -0.4662 -0.79688 -0.50092 -0.76806 -0.51111 C -0.70313 -0.53426 -0.63056 -0.5331 -0.56389 -0.53703 C -0.50469 -0.53449 -0.44497 -0.53703 -0.38612 -0.52777 C -0.36198 -0.52407 -0.33803 -0.51643 -0.31389 -0.51296 C -0.30973 -0.51227 -0.30556 -0.5118 -0.30139 -0.51111 C -0.30573 -0.4875 -0.32379 -0.47639 -0.33612 -0.46111 C -0.34862 -0.4456 -0.35938 -0.42777 -0.37223 -0.41296 C -0.45799 -0.31342 -0.54636 -0.2169 -0.65973 -0.18333 C -0.675 -0.18842 -0.66025 -0.20162 -0.65417 -0.20926 C -0.61303 -0.25995 -0.57691 -0.30995 -0.52362 -0.33889 C -0.4066 -0.40254 -0.30539 -0.42662 -0.17917 -0.43333 C -0.10625 -0.43148 -0.00816 -0.43078 0.05555 -0.37407 C 0.05 -0.35555 0.04253 -0.35764 0.02638 -0.34815 C 0.00816 -0.3375 0.01875 -0.34236 -0.00278 -0.33518 C -0.02657 -0.33842 -0.05157 -0.33819 -0.07362 -0.3537 C -0.09323 -0.36759 -0.10973 -0.39768 -0.12084 -0.42222 C -0.125 -0.4581 -0.12292 -0.48842 -0.10139 -0.51481 C -0.09549 -0.52199 -0.0882 -0.52685 -0.08195 -0.53333 C -0.07622 -0.53912 -0.07153 -0.54699 -0.06528 -0.55185 C -0.05695 -0.55833 -0.03889 -0.56666 -0.03889 -0.56666 C -0.02761 -0.56296 -0.03212 -0.5669 -0.04445 -0.54629 C -0.06684 -0.50926 -0.10087 -0.49537 -0.12917 -0.47037 C -0.14393 -0.45717 -0.15573 -0.43842 -0.17084 -0.42592 C -0.19202 -0.4081 -0.25712 -0.37268 -0.27917 -0.36111 C -0.32657 -0.33657 -0.37535 -0.31597 -0.42639 -0.31111 C -0.43004 -0.31227 -0.43421 -0.31227 -0.4375 -0.31481 C -0.4448 -0.32014 -0.43091 -0.35277 -0.43056 -0.3537 C -0.42084 -0.37569 -0.40452 -0.4 -0.39167 -0.41666 C -0.329 -0.49838 -0.24653 -0.56643 -0.15834 -0.58333 C -0.14011 -0.5794 -0.15695 -0.56435 -0.16528 -0.5574 C -0.18473 -0.5412 -0.20521 -0.52662 -0.225 -0.51111 C -0.24202 -0.49791 -0.26285 -0.49676 -0.28195 -0.49074 C -0.33733 -0.47291 -0.32813 -0.47777 -0.39046 -0.47407 C -0.45191 -0.47801 -0.49671 -0.49213 -0.55556 -0.51481 C -0.57414 -0.53055 -0.59289 -0.54027 -0.60278 -0.56852 C -0.60573 -0.57708 -0.60469 -0.58703 -0.60556 -0.59629 C -0.60157 -0.64375 -0.5875 -0.6824 -0.5625 -0.71852 C -0.54636 -0.7419 -0.52726 -0.7618 -0.50973 -0.78333 C -0.50365 -0.79074 -0.49462 -0.79259 -0.4875 -0.79815 C -0.4849 -0.8 -0.47813 -0.80764 -0.48056 -0.80555 C -0.51771 -0.77407 -0.56007 -0.75717 -0.59723 -0.72592 C -0.62639 -0.70139 -0.64862 -0.68009 -0.68195 -0.66481 C -0.70504 -0.6544 -0.72934 -0.64953 -0.75278 -0.64074 C -0.82292 -0.61412 -0.89375 -0.5787 -0.96528 -0.5574 C -0.95712 -0.57361 -0.93369 -0.59328 -0.92223 -0.6 C -0.87153 -0.62963 -0.79358 -0.6699 -0.73629 -0.68518 C -0.70278 -0.69398 -0.66841 -0.69514 -0.63473 -0.70185 C -0.48577 -0.69861 -0.34063 -0.69259 -0.19584 -0.64259 C -0.1382 -0.62268 -0.0691 -0.60092 -0.02362 -0.54629 C -0.0099 -0.50995 -0.04879 -0.4787 -0.06684 -0.46296 C -0.15296 -0.38703 -0.24983 -0.35879 -0.35157 -0.34444 C -0.44671 -0.35277 -0.48073 -0.33889 -0.55278 -0.4 C -0.56355 -0.43217 -0.55296 -0.45416 -0.53195 -0.47222 C -0.49063 -0.50787 -0.44497 -0.53379 -0.39584 -0.54259 C -0.37049 -0.54722 -0.34497 -0.54629 -0.31945 -0.54815 C -0.26893 -0.54629 -0.21806 -0.55208 -0.16806 -0.54259 C -0.01146 -0.51319 0.13142 -0.41041 0.28888 -0.38703 C 0.29097 -0.38773 0.29479 -0.38611 0.29583 -0.38889 C 0.2967 -0.3912 0.29218 -0.39074 0.29027 -0.39074 C 0.23281 -0.39305 0.17552 -0.39444 0.11805 -0.39629 C 0.09149 -0.40648 0.07447 -0.40208 0.06527 -0.43889 C 0.06336 -0.45648 0.06371 -0.47361 0.06805 -0.49074 C 0.06857 -0.48819 0.06753 -0.48402 0.06944 -0.48333 C 0.07135 -0.48264 0.07222 -0.48703 0.07361 -0.48889 C 0.08055 -0.49699 0.08732 -0.50509 0.09444 -0.51296 C 0.10052 -0.5199 0.11493 -0.53518 0.12222 -0.54074 C 0.1335 -0.5493 0.14531 -0.55671 0.15694 -0.56481 C 0.16319 -0.56921 0.17083 -0.56805 0.17777 -0.57037 C 0.19149 -0.57477 0.20468 -0.58102 0.21805 -0.58703 C 0.21961 -0.58773 0.21527 -0.58449 0.21388 -0.58333 C 0.20659 -0.57754 0.19913 -0.57222 0.19166 -0.56666 C 0.17725 -0.55578 0.16163 -0.55532 0.14583 -0.55185 C 0.1375 -0.55463 0.13663 -0.55578 0.13333 -0.56666 C 0.13507 -0.58703 0.13281 -0.59629 0.14027 -0.61111 C 0.14322 -0.6169 0.15364 -0.63264 0.15 -0.62777 C 0.11666 -0.58333 0.07638 -0.5544 0.0375 -0.52037 C 0.02916 -0.51319 0.02239 -0.50277 0.01388 -0.49629 C -0.02101 -0.47083 -0.06181 -0.46319 -0.1 -0.45185 C -0.10834 -0.45301 -0.11702 -0.45185 -0.125 -0.45555 C -0.13143 -0.45856 -0.12275 -0.47477 -0.11806 -0.48148 C -0.11094 -0.49166 -0.10365 -0.50185 -0.09584 -0.51111 C -0.06997 -0.5412 -0.03073 -0.58125 -0.00139 -0.6037 C 0.10295 -0.68356 0.19548 -0.70023 0.3125 -0.7074 C 0.3467 -0.70555 0.38107 -0.70509 0.41527 -0.70185 C 0.44791 -0.69861 0.39791 -0.68032 0.39583 -0.67963 C 0.26632 -0.64236 0.3552 -0.66713 0.24444 -0.65185 C 0.10486 -0.63264 -0.0316 -0.61065 -0.17223 -0.60555 C -0.19601 -0.60694 -0.23212 -0.60324 -0.25834 -0.61481 C -0.26632 -0.64676 -0.20886 -0.67384 -0.19584 -0.67963 C -0.11094 -0.71782 -0.07587 -0.72801 0.01388 -0.73333 C 0.11545 -0.72963 0.20329 -0.72685 0.30138 -0.69815 C 0.33541 -0.68819 0.38524 -0.67777 0.41666 -0.65 C 0.4052 -0.64236 0.37899 -0.63981 0.36805 -0.63889 C 0.33107 -0.63588 0.25694 -0.63333 0.25694 -0.63333 C 0.03854 -0.64051 -0.17796 -0.64791 -0.39445 -0.69074 C -0.40261 -0.69467 -0.41702 -0.69398 -0.41806 -0.70555 C -0.41875 -0.71389 -0.40834 -0.72338 -0.40556 -0.72592 C -0.3849 -0.74375 -0.37275 -0.74537 -0.34584 -0.75347 C -0.24688 -0.78426 -0.14532 -0.78148 -0.04445 -0.78518 C 0.11423 -0.77453 0.26927 -0.75393 0.42638 -0.72222 C 0.42586 -0.69143 0.42986 -0.65972 0.425 -0.62963 C 0.42395 -0.62361 0.41579 -0.62824 0.41111 -0.62777 C 0.3967 -0.62592 0.38246 -0.62199 0.36805 -0.62037 C 0.31354 -0.61458 0.25885 -0.61759 0.20416 -0.61666 C 0.08333 -0.62291 -0.03455 -0.63634 -0.15417 -0.6574 C -0.19202 -0.66412 -0.24948 -0.68148 -0.28056 -0.71458 C -0.28282 -0.72662 -0.27396 -0.73333 -0.26528 -0.73518 C -0.22257 -0.74444 -0.20122 -0.7449 -0.15973 -0.74815 C -0.03351 -0.74652 0.08576 -0.73958 0.20972 -0.70926 C 0.27847 -0.69236 0.35503 -0.67477 0.41666 -0.62777 C 0.39982 -0.62037 0.34062 -0.63958 0.325 -0.64259 C 0.31215 -0.6449 0.29895 -0.64583 0.28611 -0.64815 C 0.25312 -0.65393 0.22031 -0.66041 0.1875 -0.66666 C 0.15451 -0.67291 0.12204 -0.68379 0.08871 -0.68889 C 0.07691 -0.69074 0.06475 -0.69259 0.05277 -0.69444 C 0.04722 -0.69629 0.04166 -0.69791 0.03611 -0.7 C 0.03333 -0.70115 0.02951 -0.70069 0.02777 -0.7037 C 0.02673 -0.70555 0.03038 -0.70648 0.03194 -0.7074 C 0.03454 -0.70902 0.0375 -0.71018 0.04027 -0.71111 C 0.04444 -0.7125 0.04861 -0.71342 0.05277 -0.71458 C 0.05833 -0.71666 0.06388 -0.71828 0.06944 -0.72037 C 0.0901 -0.72754 0.11076 -0.73356 0.13194 -0.73703 C 0.14409 -0.74236 0.12534 -0.73634 0.12222 -0.73518 C 0.11718 -0.72639 0.11649 -0.71666 0.1125 -0.7074 C 0.11163 -0.70555 0.11145 -0.70185 0.10972 -0.70185 C 0.10833 -0.70185 0.11041 -0.70578 0.11111 -0.7074 C 0.11302 -0.71203 0.11579 -0.71597 0.11805 -0.72037 C 0.11753 -0.71412 0.1177 -0.70787 0.11666 -0.70185 C 0.11632 -0.69977 0.11441 -0.69838 0.11388 -0.69629 C 0.11302 -0.69282 0.11302 -0.68889 0.1125 -0.68518 C 0.11302 -0.68333 0.1125 -0.6787 0.11388 -0.67963 C 0.11632 -0.68125 0.11649 -0.68588 0.11805 -0.68889 C 0.11927 -0.69143 0.12378 -0.69838 0.12222 -0.69629 C 0.12031 -0.69375 0.11857 -0.6912 0.11666 -0.68889 C 0.11545 -0.6875 0.11371 -0.68657 0.1125 -0.68518 C 0.11059 -0.68287 0.10885 -0.68032 0.10694 -0.67777 C 0.10555 -0.67847 0.10416 -0.68032 0.10277 -0.67963 C 0.10017 -0.67824 0.09913 -0.67453 0.09722 -0.67222 C 0.09201 -0.66643 0.08611 -0.66227 0.08055 -0.6574 C 0.07916 -0.66527 0.07812 -0.66551 0.08055 -0.67407 C 0.08107 -0.67615 0.08402 -0.67754 0.08333 -0.67963 C 0.08263 -0.68148 0.08055 -0.67847 0.07916 -0.67777 C 0.07725 -0.67592 0.07517 -0.6743 0.07361 -0.67222 C 0.07239 -0.6706 0.07204 -0.66805 0.07083 -0.66666 C 0.06614 -0.66134 0.05972 -0.65555 0.05416 -0.65185 C 0.05468 -0.6544 0.05486 -0.65694 0.05555 -0.65926 C 0.05625 -0.66134 0.06007 -0.66481 0.05833 -0.66481 C 0.05642 -0.66481 0.05572 -0.66088 0.05416 -0.65926 C 0.05243 -0.65717 0.05034 -0.65578 0.04861 -0.6537 C 0.04079 -0.64467 0.03229 -0.63727 0.02361 -0.62963 C 0.01527 -0.63703 0.01892 -0.64444 0.02361 -0.6537 C 0.02413 -0.65671 0.02447 -0.65995 0.025 -0.66296 C 0.02534 -0.66481 0.02777 -0.66782 0.02638 -0.66852 C 0.025 -0.66921 0.01805 -0.66203 0.01666 -0.66111 C 0.00451 -0.65254 -0.01007 -0.64143 -0.02362 -0.63703 C -0.0257 -0.65069 -0.02153 -0.65625 -0.01806 -0.67037 C -0.01771 -0.67245 -0.01407 -0.6743 -0.01528 -0.67592 C -0.01667 -0.67777 -0.01893 -0.67477 -0.02084 -0.67407 C -0.02553 -0.66481 -0.02223 -0.66967 -0.03195 -0.66111 C -0.05139 -0.64375 -0.03299 -0.65046 -0.04862 -0.64629 C -0.05417 -0.64143 -0.05573 -0.63796 -0.05139 -0.65555 C -0.05053 -0.65902 -0.04532 -0.66736 -0.04723 -0.66481 C -0.05087 -0.65995 -0.0533 -0.65301 -0.05695 -0.64815 C -0.05973 -0.64444 -0.06233 -0.64051 -0.06528 -0.63703 C -0.06893 -0.63264 -0.07257 -0.62824 -0.07639 -0.62407 C -0.07952 -0.62083 -0.08316 -0.61828 -0.08612 -0.61481 C -0.10191 -0.5956 -0.08403 -0.6125 -0.09584 -0.60185 C -0.09271 -0.61458 -0.08907 -0.6294 -0.08334 -0.64074 C -0.08421 -0.64259 -0.08455 -0.64583 -0.08612 -0.64629 C -0.08768 -0.64676 -0.08889 -0.64375 -0.09028 -0.64259 C -0.09202 -0.6412 -0.0941 -0.64027 -0.09584 -0.63889 C -0.10209 -0.63356 -0.1066 -0.63009 -0.11389 -0.62777 C -0.11337 -0.63588 -0.10921 -0.64514 -0.1125 -0.65185 C -0.11459 -0.65602 -0.11928 -0.64745 -0.12223 -0.64444 C -0.12952 -0.63703 -0.13612 -0.62847 -0.14306 -0.62037 C -0.15782 -0.60324 -0.17431 -0.58426 -0.19306 -0.57592 C -0.19375 -0.57847 -0.19497 -0.58078 -0.19445 -0.58333 C -0.19393 -0.58588 -0.1915 -0.5868 -0.19028 -0.58889 C -0.18594 -0.59652 -0.18264 -0.60671 -0.17917 -0.61481 C -0.17796 -0.61782 -0.17743 -0.62106 -0.17657 -0.62407 C -0.17553 -0.62662 -0.17466 -0.62916 -0.17362 -0.63148 C -0.17275 -0.63333 -0.16945 -0.63842 -0.17084 -0.63703 C -0.18334 -0.62361 -0.19046 -0.60069 -0.20139 -0.58518 C -0.20452 -0.58078 -0.20903 -0.57801 -0.2125 -0.57407 C -0.21598 -0.57014 -0.21875 -0.56504 -0.2224 -0.56111 C -0.22726 -0.55532 -0.24931 -0.53217 -0.25434 -0.52963 C -0.25886 -0.52708 -0.26806 -0.52222 -0.26806 -0.52222 C -0.27223 -0.53611 -0.26997 -0.53518 -0.26389 -0.54815 C -0.25764 -0.56157 -0.25191 -0.57477 -0.24445 -0.58703 C -0.2507 -0.5375 -0.27396 -0.51504 -0.29584 -0.47963 C -0.32362 -0.43449 -0.3474 -0.38264 -0.37084 -0.33333 C -0.37796 -0.31828 -0.38299 -0.30185 -0.39046 -0.28703 C -0.39844 -0.27083 -0.40903 -0.25787 -0.41667 -0.24074 C -0.40174 -0.31412 -0.37691 -0.38148 -0.35 -0.44815 C -0.34184 -0.46828 -0.33351 -0.48842 -0.32639 -0.50926 C -0.32362 -0.51736 -0.32101 -0.52546 -0.31806 -0.53333 C -0.31632 -0.53773 -0.31424 -0.5419 -0.31268 -0.54629 C -0.31146 -0.5493 -0.30799 -0.55787 -0.30973 -0.55555 C -0.32362 -0.53703 -0.33646 -0.48703 -0.34584 -0.46481 C -0.37223 -0.40208 -0.4007 -0.34421 -0.43056 -0.28518 C -0.48316 -0.1824 -0.41094 -0.30926 -0.48889 -0.17777 C -0.49671 -0.16458 -0.50191 -0.15578 -0.5125 -0.14629 C -0.50886 -0.22338 -0.48525 -0.2912 -0.45139 -0.3537 C -0.44566 -0.36435 -0.43959 -0.375 -0.43334 -0.38518 C -0.42674 -0.39606 -0.4125 -0.41666 -0.4125 -0.41666 C -0.39046 -0.38703 -0.42049 -0.32222 -0.42917 -0.29259 C -0.4599 -0.18773 -0.48941 -0.08565 -0.53195 0.01297 C -0.54809 0.0507 -0.56216 0.09005 -0.58056 0.12593 C -0.58664 0.13773 -0.59306 0.14908 -0.59862 0.16111 C -0.60105 0.16621 -0.60747 0.18195 -0.60417 0.17778 C -0.56441 0.12755 -0.5724 0.11736 -0.53473 0.05926 C -0.52223 0.03982 -0.4099 -0.12615 -0.37223 -0.16481 C -0.31129 -0.22731 -0.2566 -0.27199 -0.19445 -0.32407 C -0.17778 -0.33796 -0.15903 -0.34745 -0.14028 -0.35555 C -0.13004 -0.35995 -0.10834 -0.36111 -0.10834 -0.36111 C -0.08421 -0.35046 -0.09341 -0.31666 -0.10139 -0.28333 C -0.1099 -0.24838 -0.13837 -0.17916 -0.15278 -0.13889 C -0.17466 -0.07754 -0.19428 -0.0125 -0.21945 0.0463 C -0.23056 0.07223 -0.24514 0.09514 -0.25695 0.12037 C -0.25903 0.125 -0.26181 0.12894 -0.26389 0.13334 C -0.26493 0.13565 -0.26841 0.14213 -0.26667 0.14074 C -0.24723 0.12477 -0.23316 0.09977 -0.21389 0.08334 C -0.18525 0.0588 -0.15851 0.04514 -0.125 0.0426 C -0.10903 0.04422 -0.09098 0.0456 -0.07639 0.05556 C -0.06771 0.06158 -0.05834 0.06667 -0.05139 0.07593 C -0.04723 0.08148 -0.03889 0.0926 -0.03889 0.0926 C -0.03785 0.09653 -0.0349 0.09954 -0.0349 0.10371 C -0.0349 0.11181 -0.03525 0.12014 -0.0375 0.12778 C -0.03907 0.1331 -0.04306 0.13635 -0.04584 0.14074 C -0.06007 0.16412 -0.07587 0.1831 -0.09723 0.19445 C -0.09671 0.19005 -0.09723 0.18542 -0.09584 0.18148 C -0.09115 0.16852 -0.07865 0.14584 -0.06945 0.13704 C -0.06112 0.12917 -0.05157 0.12385 -0.04306 0.11667 C -0.03698 0.11158 -0.02917 0.11227 -0.02223 0.10926 C -0.01216 0.10486 0.00069 0.10185 0.00972 0.09445 C 0.01371 0.09121 0.01718 0.08704 0.02083 0.08334 C 0.02222 0.08195 0.0243 0.07986 0.02361 0.07778 C 0.02291 0.07593 0.02083 0.07894 0.01944 0.07963 C 0.01163 0.09005 0.00555 0.09723 -0.00417 0.10371 C -0.01129 0.10047 -0.00643 0.1044 -0.00973 0.0963 C -0.01129 0.09236 -0.01528 0.08519 -0.01528 0.08519 C -0.01684 0.07292 -0.01667 0.07778 -0.01667 0.07037 C -0.02188 0.08426 -0.0349 0.08704 -0.03889 0.07037 C -0.03698 0.06297 -0.0349 0.05996 -0.02917 0.05741 C -0.02622 0.06343 -0.0224 0.06621 -0.01945 0.07223 C -0.01997 0.07477 -0.02084 0.07963 -0.02084 0.07963 L -0.03334 0.07778 C -0.02518 0.0581 -0.02987 0.05857 -0.01112 0.05926 C 0.00191 0.05973 0.02777 0.06297 0.02777 0.06297 L -0.03056 0.07037 L -0.72084 0.23704 C -0.71928 0.09236 -0.77952 -0.09398 -0.70278 -0.19629 C -0.70226 -0.19815 -0.70209 -0.20023 -0.70139 -0.20185 C -0.70018 -0.20463 -0.6974 -0.20926 -0.6974 -0.20926 C -0.50365 -0.23032 -0.31042 -0.25648 -0.11667 -0.27222 C -0.11042 -0.27268 -0.10625 -0.26273 -0.10139 -0.2574 C -0.08716 -0.24166 -0.07917 -0.21736 -0.06528 -0.20185 C -0.06042 -0.19652 -0.05504 -0.19213 -0.05 -0.18703 C -0.04462 -0.18171 -0.03334 -0.17222 -0.03334 -0.17222 C -0.14028 -0.01111 -0.2441 0.15371 -0.35417 0.31111 C -0.36372 0.32477 -0.38195 0.31621 -0.39584 0.31852 C -0.39948 0.31922 -0.40695 0.32037 -0.40695 0.32037 C -0.41389 0.31968 -0.42101 0.32014 -0.42778 0.31852 C -0.43473 0.3169 -0.44393 0.30741 -0.44862 0.30185 C -0.4698 0.27639 -0.48299 0.24861 -0.49445 0.21297 C -0.50191 0.19005 -0.50921 0.16736 -0.51667 0.14445 C -0.52032 0.13287 -0.52639 0.10926 -0.52639 0.10926 C -0.53612 -0.01921 -0.55782 -0.14699 -0.55556 -0.27592 C -0.55539 -0.28495 -0.48768 -0.29977 -0.47778 -0.3 C -0.43195 -0.30046 -0.38612 -0.3 -0.34028 -0.3 C -0.14688 -0.13078 -0.03386 -0.17893 -0.08334 0.05185 C -0.08559 0.07385 -0.08716 0.09977 -0.09445 0.12037 C -0.09618 0.12523 -0.09931 0.12871 -0.10139 0.13334 C -0.10452 0.13982 -0.10417 0.14815 -0.11112 0.14815 C -0.13698 0.14514 -0.16303 0.14167 -0.18889 0.13889 C -0.22414 0.13496 -0.22952 0.13773 -0.25556 0.11852 C -0.26441 0.10093 -0.27396 0.0831 -0.28195 0.06482 C -0.28559 0.05648 -0.29167 0.03889 -0.29167 0.03889 L -0.1375 -0.22407 C -0.07188 -0.18819 -0.05678 -0.19884 -0.025 -0.14259 C -0.02275 -0.13032 -0.01997 -0.11805 -0.01806 -0.10555 C -0.01997 -0.08889 -0.02205 -0.07268 -0.02778 -0.0574 C -0.02969 -0.05208 -0.03195 -0.04699 -0.0349 -0.04259 C -0.03629 -0.04027 -0.04028 -0.03703 -0.04028 -0.03703 C -0.00487 0.20301 -0.06025 0.22848 0.03611 0.1963 C 0.04531 0.18403 0.05434 0.17523 0.06527 0.16667 C 0.06718 0.16505 0.06909 0.1632 0.07083 0.16111 C 0.07239 0.15949 0.075 0.15556 0.075 0.15556 L 0.03888 0.14815 C 0.01666 0.12662 -0.00695 0.10741 -0.02778 0.08334 C -0.02952 0.08125 -0.02518 0.07824 -0.02362 0.07593 C -0.01719 0.06644 -0.01233 0.06181 -0.00417 0.05556 C -0.00087 0.05301 0.00555 0.04815 0.00555 0.04815 L 0.03194 0.00556 L 0.02916 -0.0074 E">
                                      <p:cBhvr>
                                        <p:cTn id="49" dur="2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7:58:45Z</dcterms:created>
  <dc:creator>install</dc:creator>
  <dc:description/>
  <dc:language>en-US</dc:language>
  <cp:lastModifiedBy>install</cp:lastModifiedBy>
  <dcterms:modified xsi:type="dcterms:W3CDTF">2011-06-01T17:35:49Z</dcterms:modified>
  <cp:revision>7</cp:revision>
  <dc:subject/>
  <dc:title>Slide 1</dc:title>
</cp:coreProperties>
</file>